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5b82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399F-A0D3-4965-B1F4-7D4A6C5BCAA6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51B4-A73D-4E37-A31D-E881C0533AF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4126-3844-443F-8CD2-38985D37E85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C797-1B98-47A9-93BB-17559C0763E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3768-1DBA-40AA-8BD7-2B640E89347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84D8-95D8-4D62-B6E6-43F4B186E29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52A0-EFAB-4E45-8933-A733581BDC2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5b82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buClr>
                <a:srgbClr val="005b8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550"/>
              </a:spcBef>
              <a:buClr>
                <a:srgbClr val="005b8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550"/>
              </a:spcBef>
              <a:buClr>
                <a:srgbClr val="009ee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550"/>
              </a:spcBef>
              <a:buClr>
                <a:srgbClr val="009ee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1440" y="0"/>
            <a:ext cx="125640" cy="2286000"/>
          </a:xfrm>
          <a:prstGeom prst="rect">
            <a:avLst/>
          </a:prstGeom>
          <a:solidFill>
            <a:srgbClr val="b9bb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4572000"/>
            <a:ext cx="125280" cy="2286000"/>
          </a:xfrm>
          <a:prstGeom prst="rect">
            <a:avLst/>
          </a:prstGeom>
          <a:solidFill>
            <a:srgbClr val="5153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15920" y="0"/>
            <a:ext cx="125280" cy="2286000"/>
          </a:xfrm>
          <a:prstGeom prst="rect">
            <a:avLst/>
          </a:prstGeom>
          <a:solidFill>
            <a:srgbClr val="005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14480" y="2286000"/>
            <a:ext cx="125280" cy="2286000"/>
          </a:xfrm>
          <a:prstGeom prst="rect">
            <a:avLst/>
          </a:prstGeom>
          <a:solidFill>
            <a:srgbClr val="b9bb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114480" y="4572000"/>
            <a:ext cx="125280" cy="22860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457200" y="6477120"/>
            <a:ext cx="838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12"/>
          <p:cNvSpPr/>
          <p:nvPr/>
        </p:nvSpPr>
        <p:spPr>
          <a:xfrm>
            <a:off x="457200" y="6477120"/>
            <a:ext cx="838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5b82"/>
                </a:solidFill>
                <a:latin typeface="Arial"/>
              </a:rPr>
              <a:t>EduGATE  - 2014 -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 U Pietrzyk / M Gaens - </a:t>
            </a:r>
            <a:r>
              <a:rPr b="0" lang="de-DE" sz="1000" spc="-1" strike="noStrike">
                <a:solidFill>
                  <a:srgbClr val="005b82"/>
                </a:solidFill>
                <a:latin typeface="Arial"/>
              </a:rPr>
              <a:t>INM – FZ-Juelich / University of Wuppertal - Germany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          </a:t>
            </a:r>
            <a:r>
              <a:rPr b="0" lang="de-DE" sz="1000" spc="-1" strike="noStrike">
                <a:solidFill>
                  <a:srgbClr val="005b82"/>
                </a:solidFill>
                <a:latin typeface="Arial"/>
              </a:rPr>
              <a:t>Slide </a:t>
            </a:r>
            <a:fld id="{997428AD-A310-4AEC-95F8-C4A30B06FE59}" type="slidenum">
              <a:rPr b="0" lang="de-DE" sz="1000" spc="-1" strike="noStrike">
                <a:solidFill>
                  <a:srgbClr val="005b8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3" descr="Logo_FZ_Jülich_NEU_rgb"/>
          <p:cNvPicPr/>
          <p:nvPr/>
        </p:nvPicPr>
        <p:blipFill>
          <a:blip r:embed="rId2"/>
          <a:stretch/>
        </p:blipFill>
        <p:spPr>
          <a:xfrm>
            <a:off x="7029360" y="136440"/>
            <a:ext cx="1447920" cy="47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-1440" y="2286000"/>
            <a:ext cx="9144000" cy="4572000"/>
          </a:xfrm>
          <a:prstGeom prst="rect">
            <a:avLst/>
          </a:prstGeom>
          <a:solidFill>
            <a:srgbClr val="005b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2286000"/>
            <a:ext cx="125280" cy="2286000"/>
          </a:xfrm>
          <a:prstGeom prst="rect">
            <a:avLst/>
          </a:prstGeom>
          <a:solidFill>
            <a:srgbClr val="005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4572000"/>
            <a:ext cx="125280" cy="2286000"/>
          </a:xfrm>
          <a:prstGeom prst="rect">
            <a:avLst/>
          </a:prstGeom>
          <a:solidFill>
            <a:srgbClr val="5153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15920" y="0"/>
            <a:ext cx="1252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14480" y="2286000"/>
            <a:ext cx="125280" cy="2286000"/>
          </a:xfrm>
          <a:prstGeom prst="rect">
            <a:avLst/>
          </a:prstGeom>
          <a:solidFill>
            <a:srgbClr val="b9bb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14480" y="4572000"/>
            <a:ext cx="125280" cy="22860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 rot="16200000">
            <a:off x="-1078920" y="931320"/>
            <a:ext cx="2478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5b82"/>
                </a:solidFill>
                <a:latin typeface="Arial MT Bd"/>
                <a:ea typeface="Arial"/>
              </a:rPr>
              <a:t>Mitglied der Helmholtz-Gemeinsch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Logo_FZ_Jülich_NEU_rgb"/>
          <p:cNvPicPr/>
          <p:nvPr/>
        </p:nvPicPr>
        <p:blipFill>
          <a:blip r:embed="rId2"/>
          <a:stretch/>
        </p:blipFill>
        <p:spPr>
          <a:xfrm>
            <a:off x="6234120" y="254160"/>
            <a:ext cx="2320920" cy="814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Logo_FZ_Jülich_NEU_rgb"/>
          <p:cNvPicPr/>
          <p:nvPr/>
        </p:nvPicPr>
        <p:blipFill>
          <a:blip r:embed="rId3"/>
          <a:stretch/>
        </p:blipFill>
        <p:spPr>
          <a:xfrm>
            <a:off x="6172200" y="254160"/>
            <a:ext cx="2514600" cy="8143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5b82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buClr>
                <a:srgbClr val="005b8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550"/>
              </a:spcBef>
              <a:buClr>
                <a:srgbClr val="005b8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550"/>
              </a:spcBef>
              <a:buClr>
                <a:srgbClr val="009ee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550"/>
              </a:spcBef>
              <a:buClr>
                <a:srgbClr val="009ee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u.pietrzyk@fz-juelich.de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8920" y="2192400"/>
            <a:ext cx="8937720" cy="16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PECT-to-Reco</a:t>
            </a:r>
            <a:br>
              <a:rPr sz="3200"/>
            </a:b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 new Module for the</a:t>
            </a:r>
            <a:br>
              <a:rPr sz="3200"/>
            </a:b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EduGATE Project</a:t>
            </a:r>
            <a:endParaRPr b="1" lang="en-US" sz="32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98520" y="3701880"/>
            <a:ext cx="8569440" cy="26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we Pietrzyk &amp; Michaela Gaens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itute of Neurosciences and Medicine (INM), Research Center Jueli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partment of Mathematics and Natural Sciences, University of Wuppertal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act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.pietrzyk@fz-juelich.d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r uwe.pietrzyk@uni-wuppertal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(Paper </a:t>
            </a:r>
            <a:r>
              <a:rPr b="0" lang="de-DE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„Zeitschrift für Medizinische Physik“ / Z. Med. Phys. 23 (2013) 65-7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2"/>
          <p:cNvSpPr/>
          <p:nvPr/>
        </p:nvSpPr>
        <p:spPr>
          <a:xfrm>
            <a:off x="326880" y="1415880"/>
            <a:ext cx="8616960" cy="37508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ng is the way of theor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ort and effective by examp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Lucius Annaeu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ne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the Younger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pistulae mor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2"/>
          <p:cNvSpPr/>
          <p:nvPr/>
        </p:nvSpPr>
        <p:spPr>
          <a:xfrm>
            <a:off x="341280" y="415800"/>
            <a:ext cx="6631200" cy="52056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Using GATE to Educate </a:t>
            </a:r>
            <a:r>
              <a:rPr b="1" lang="de-DE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EduG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380880" y="1190520"/>
            <a:ext cx="8631360" cy="39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m: Provide insights into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hysics of Medical Im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s: Provide a collection of very basic and simple GATE mac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Detector setups, but variable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on o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hysical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switching betwee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ourc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different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on sources (General Particle Sour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mm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ctron or Positron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 simpl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alys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e for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2"/>
          <p:cNvSpPr/>
          <p:nvPr/>
        </p:nvSpPr>
        <p:spPr>
          <a:xfrm>
            <a:off x="341280" y="415800"/>
            <a:ext cx="6631200" cy="58140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SPECT-to-Re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5"/>
          <p:cNvSpPr/>
          <p:nvPr/>
        </p:nvSpPr>
        <p:spPr>
          <a:xfrm>
            <a:off x="1092240" y="1698480"/>
            <a:ext cx="6997680" cy="38894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P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– Rotating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ore data a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roj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play wi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Fij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/ Imag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econstru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ith FBP and Iterative Methods in IDL/GDL (or RO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play wi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Fij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/ Imag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EAD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rovided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feld 2"/>
          <p:cNvSpPr/>
          <p:nvPr/>
        </p:nvSpPr>
        <p:spPr>
          <a:xfrm>
            <a:off x="393840" y="144360"/>
            <a:ext cx="8521560" cy="6396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## File: </a:t>
            </a: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Readme_Intro.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0"/>
                </a:solidFill>
                <a:latin typeface="Arial"/>
              </a:rPr>
              <a:t>Description of EduGATE module: SPECT_to_Re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* Intro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re are three main aspects, which are demonstrated to the interested us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unning a "Gamma_Camera" in SPECT-mode, acquiring 60 projections covering 180°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setup relates closely to the Gamma_Camera example of th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EduGATE-col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) produce basic output like energy spectra with "root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) Use the provided IDL/GDL modules to reconstruct images, ei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th filtered backprojection or with an iterative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) Use Fiji (or ImageJ) to insp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) the acquired proj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) reconstructed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dditional information or readme-files for parts 1 to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rt1: start with config_starter.sh (needs probably to be adapted to the individual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rt2: ROOT-analysis; this is automatically started, when GATE has comple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rt3: Readme_reco_demo_idl_g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dl (Interactive Data Language) or gdl (GNUDataLanguage) can be used with the supplied "pro"-fi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rt4: Readme_reco_demo_Fiji.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Bild 1" descr="Plot_5.tiff"/>
          <p:cNvPicPr/>
          <p:nvPr/>
        </p:nvPicPr>
        <p:blipFill>
          <a:blip r:embed="rId1"/>
          <a:stretch/>
        </p:blipFill>
        <p:spPr>
          <a:xfrm>
            <a:off x="5867280" y="1871640"/>
            <a:ext cx="274320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Bild 3" descr="Plot_6.tiff"/>
          <p:cNvPicPr/>
          <p:nvPr/>
        </p:nvPicPr>
        <p:blipFill>
          <a:blip r:embed="rId1"/>
          <a:stretch/>
        </p:blipFill>
        <p:spPr>
          <a:xfrm>
            <a:off x="25560" y="1359000"/>
            <a:ext cx="4622760" cy="5526000"/>
          </a:xfrm>
          <a:prstGeom prst="rect">
            <a:avLst/>
          </a:prstGeom>
          <a:ln w="0">
            <a:noFill/>
          </a:ln>
        </p:spPr>
      </p:pic>
      <p:pic>
        <p:nvPicPr>
          <p:cNvPr id="110" name="Bild 4" descr="Plot_7.tiff"/>
          <p:cNvPicPr/>
          <p:nvPr/>
        </p:nvPicPr>
        <p:blipFill>
          <a:blip r:embed="rId2"/>
          <a:stretch/>
        </p:blipFill>
        <p:spPr>
          <a:xfrm>
            <a:off x="4635360" y="1430280"/>
            <a:ext cx="4508640" cy="538956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11"/>
          <p:cNvSpPr/>
          <p:nvPr/>
        </p:nvSpPr>
        <p:spPr>
          <a:xfrm>
            <a:off x="1828800" y="-4680"/>
            <a:ext cx="5803920" cy="13129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  <a:ea typeface="Arial"/>
              </a:rPr>
              <a:t>Display via Fij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  <a:ea typeface="Arial"/>
              </a:rPr>
              <a:t>Projections and Re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23:01:54Z</dcterms:created>
  <dc:creator>dott</dc:creator>
  <dc:description/>
  <dc:language>en-US</dc:language>
  <cp:lastModifiedBy>Uwe Pietrzyk</cp:lastModifiedBy>
  <cp:lastPrinted>2009-10-08T08:32:23Z</cp:lastPrinted>
  <dcterms:modified xsi:type="dcterms:W3CDTF">2014-09-28T11:05:31Z</dcterms:modified>
  <cp:revision>538</cp:revision>
  <dc:subject/>
  <dc:title>Folie 1</dc:title>
</cp:coreProperties>
</file>