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FC0A-A4B9-4572-AA32-52DAC858396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68D7-DD4A-4446-A20E-AD838EBEB6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45E7-13A3-4E50-98E9-FDEB2E8FDDC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4E92-B8C9-4BD0-B6B9-E6534DE343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833-D444-4AA6-B0C3-266D45ED39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A065-EC63-4BBB-B851-CB831335F7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B5D-0488-4205-9E0A-55549A96AE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C42-000A-4982-8C03-E445EE64035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1B87-6834-401A-84E7-69AA76294C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093D-D15E-4B1B-ADB1-073DFB701E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945-AC7B-43D9-BB77-AD08D28267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4CE7-4CB1-425A-8F43-18962F382D9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4650-C85E-4E95-AD39-7E066E9879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B18C-360E-433E-A955-7FE49F7C68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F23-3B0C-44F0-B967-2C9DBF428D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09E4-B8AE-4CF6-A3B8-690A5557F28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EBB4-6B46-44A5-A4D7-40E2042D54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315E-8FB6-477C-BDB2-81FC840148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C07-1FC4-482C-AEC0-761CDFF3705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405-DA84-4891-842E-DB84851E145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57B3FA2C-E216-4525-8055-8EC1C7B392F1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040"/>
            <a:ext cx="893772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993840"/>
            <a:ext cx="856944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Basic 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2"/>
          <p:cNvSpPr/>
          <p:nvPr/>
        </p:nvSpPr>
        <p:spPr>
          <a:xfrm>
            <a:off x="620640" y="174600"/>
            <a:ext cx="82440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ctrometry_Gamma_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ild 1" descr="G4OpenGL_1.png"/>
          <p:cNvPicPr/>
          <p:nvPr/>
        </p:nvPicPr>
        <p:blipFill>
          <a:blip r:embed="rId1"/>
          <a:srcRect l="13909" t="8592" r="17386" b="19635"/>
          <a:stretch/>
        </p:blipFill>
        <p:spPr>
          <a:xfrm>
            <a:off x="241200" y="1092240"/>
            <a:ext cx="4267440" cy="4457520"/>
          </a:xfrm>
          <a:prstGeom prst="rect">
            <a:avLst/>
          </a:prstGeom>
          <a:ln w="0">
            <a:noFill/>
          </a:ln>
        </p:spPr>
      </p:pic>
      <p:pic>
        <p:nvPicPr>
          <p:cNvPr id="134" name="Bild 2" descr="G4OpenGL_2.png"/>
          <p:cNvPicPr/>
          <p:nvPr/>
        </p:nvPicPr>
        <p:blipFill>
          <a:blip r:embed="rId2"/>
          <a:srcRect l="11112" t="11962" r="11969" b="12535"/>
          <a:stretch/>
        </p:blipFill>
        <p:spPr>
          <a:xfrm>
            <a:off x="4562640" y="1112760"/>
            <a:ext cx="4530600" cy="4446720"/>
          </a:xfrm>
          <a:prstGeom prst="rect">
            <a:avLst/>
          </a:prstGeom>
          <a:ln w="0">
            <a:noFill/>
          </a:ln>
        </p:spPr>
      </p:pic>
      <p:cxnSp>
        <p:nvCxnSpPr>
          <p:cNvPr id="135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sp>
        <p:nvSpPr>
          <p:cNvPr id="136" name="Text Box 32"/>
          <p:cNvSpPr/>
          <p:nvPr/>
        </p:nvSpPr>
        <p:spPr>
          <a:xfrm>
            <a:off x="836640" y="4797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2982960" y="480996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2"/>
          <p:cNvSpPr/>
          <p:nvPr/>
        </p:nvSpPr>
        <p:spPr>
          <a:xfrm>
            <a:off x="542880" y="237960"/>
            <a:ext cx="30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Basi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1481040" y="5681520"/>
            <a:ext cx="661824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crystals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ild 1" descr="G4OpenGL_1.png"/>
          <p:cNvPicPr/>
          <p:nvPr/>
        </p:nvPicPr>
        <p:blipFill>
          <a:blip r:embed="rId1"/>
          <a:srcRect l="13909" t="8592" r="17386" b="19635"/>
          <a:stretch/>
        </p:blipFill>
        <p:spPr>
          <a:xfrm>
            <a:off x="85680" y="1092240"/>
            <a:ext cx="4578480" cy="4457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2"/>
          <p:cNvSpPr/>
          <p:nvPr/>
        </p:nvSpPr>
        <p:spPr>
          <a:xfrm>
            <a:off x="795240" y="4797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2940120" y="48099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660920" y="1092240"/>
            <a:ext cx="4483080" cy="4457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posing NaI-crystals allow to det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-scattered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 X-ray, escaping from the crystal (head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1376280" y="5834160"/>
            <a:ext cx="667548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rys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gamma 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ays directed towards head 0 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006960"/>
          </a:xfrm>
          <a:prstGeom prst="rect">
            <a:avLst/>
          </a:prstGeom>
          <a:ln w="0">
            <a:noFill/>
          </a:ln>
        </p:spPr>
      </p:pic>
      <p:sp>
        <p:nvSpPr>
          <p:cNvPr id="146" name="Gerade Verbindung 9"/>
          <p:cNvSpPr/>
          <p:nvPr/>
        </p:nvSpPr>
        <p:spPr>
          <a:xfrm>
            <a:off x="5702400" y="68580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14"/>
          <p:cNvSpPr/>
          <p:nvPr/>
        </p:nvSpPr>
        <p:spPr>
          <a:xfrm flipV="1">
            <a:off x="1015920" y="25524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erade Verbindung 19"/>
          <p:cNvSpPr/>
          <p:nvPr/>
        </p:nvSpPr>
        <p:spPr>
          <a:xfrm flipV="1">
            <a:off x="990720" y="402552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851360" y="800280"/>
            <a:ext cx="167652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 = 511Ke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feld 1"/>
          <p:cNvSpPr/>
          <p:nvPr/>
        </p:nvSpPr>
        <p:spPr>
          <a:xfrm>
            <a:off x="643680" y="6310440"/>
            <a:ext cx="812916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51000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0.339778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1" lang="sv-SE" sz="2000" spc="-1" strike="noStrike">
                <a:solidFill>
                  <a:srgbClr val="ff0000"/>
                </a:solidFill>
                <a:latin typeface="Arial"/>
              </a:rPr>
              <a:t>0.17022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2"/>
          <p:cNvSpPr/>
          <p:nvPr/>
        </p:nvSpPr>
        <p:spPr>
          <a:xfrm>
            <a:off x="557280" y="911160"/>
            <a:ext cx="16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11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pic>
        <p:nvPicPr>
          <p:cNvPr id="153" name="Bild 2" descr="Spectrometry_2heads_gamma_collim_511_NaI_0.10_Vacuum.tiff"/>
          <p:cNvPicPr/>
          <p:nvPr/>
        </p:nvPicPr>
        <p:blipFill>
          <a:blip r:embed="rId1"/>
          <a:stretch/>
        </p:blipFill>
        <p:spPr>
          <a:xfrm>
            <a:off x="2057400" y="-27000"/>
            <a:ext cx="6692760" cy="6899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2"/>
          <p:cNvSpPr/>
          <p:nvPr/>
        </p:nvSpPr>
        <p:spPr>
          <a:xfrm>
            <a:off x="3313080" y="289080"/>
            <a:ext cx="23385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005520" y="3908520"/>
            <a:ext cx="23385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7288200" y="263520"/>
            <a:ext cx="117000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4064040" y="923760"/>
            <a:ext cx="2374920" cy="56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 electron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ton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4940280" y="4660920"/>
            <a:ext cx="34671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Gerade Verbindung mit Pfeil 6"/>
          <p:cNvCxnSpPr/>
          <p:nvPr/>
        </p:nvCxnSpPr>
        <p:spPr>
          <a:xfrm flipH="1">
            <a:off x="7187760" y="838080"/>
            <a:ext cx="394560" cy="356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Gerade Verbindung mit Pfeil 10"/>
          <p:cNvCxnSpPr/>
          <p:nvPr/>
        </p:nvCxnSpPr>
        <p:spPr>
          <a:xfrm flipH="1">
            <a:off x="5320440" y="1549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Gerade Verbindung mit Pfeil 11"/>
          <p:cNvCxnSpPr/>
          <p:nvPr/>
        </p:nvCxnSpPr>
        <p:spPr>
          <a:xfrm flipH="1">
            <a:off x="4393440" y="4889520"/>
            <a:ext cx="686520" cy="14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 Box 32"/>
          <p:cNvSpPr/>
          <p:nvPr/>
        </p:nvSpPr>
        <p:spPr>
          <a:xfrm>
            <a:off x="444600" y="327672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ild 2" descr="Fig_10_4.tiff"/>
          <p:cNvPicPr/>
          <p:nvPr/>
        </p:nvPicPr>
        <p:blipFill>
          <a:blip r:embed="rId1"/>
          <a:stretch/>
        </p:blipFill>
        <p:spPr>
          <a:xfrm>
            <a:off x="1333440" y="71280"/>
            <a:ext cx="5892840" cy="6723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2"/>
          <p:cNvSpPr/>
          <p:nvPr/>
        </p:nvSpPr>
        <p:spPr>
          <a:xfrm>
            <a:off x="6006960" y="0"/>
            <a:ext cx="3137040" cy="309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9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more detail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6251400" y="6483240"/>
            <a:ext cx="24274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ild 1" descr="Spectrometry_2heads_gamma_collim_80_NaI_0.10_Vacuum.tiff"/>
          <p:cNvPicPr/>
          <p:nvPr/>
        </p:nvPicPr>
        <p:blipFill>
          <a:blip r:embed="rId1"/>
          <a:stretch/>
        </p:blipFill>
        <p:spPr>
          <a:xfrm>
            <a:off x="3060720" y="88920"/>
            <a:ext cx="5740560" cy="6337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2"/>
          <p:cNvSpPr/>
          <p:nvPr/>
        </p:nvSpPr>
        <p:spPr>
          <a:xfrm>
            <a:off x="557280" y="911160"/>
            <a:ext cx="16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80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sp>
        <p:nvSpPr>
          <p:cNvPr id="169" name="Text Box 32"/>
          <p:cNvSpPr/>
          <p:nvPr/>
        </p:nvSpPr>
        <p:spPr>
          <a:xfrm>
            <a:off x="3770280" y="390600"/>
            <a:ext cx="21099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6221520" y="3768840"/>
            <a:ext cx="23382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596880" y="313704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4013280" y="1038240"/>
            <a:ext cx="113040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Gerade Verbindung mit Pfeil 10"/>
          <p:cNvCxnSpPr/>
          <p:nvPr/>
        </p:nvCxnSpPr>
        <p:spPr>
          <a:xfrm>
            <a:off x="4711680" y="2057040"/>
            <a:ext cx="39456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 Box 32"/>
          <p:cNvSpPr/>
          <p:nvPr/>
        </p:nvSpPr>
        <p:spPr>
          <a:xfrm>
            <a:off x="3822840" y="3137040"/>
            <a:ext cx="4038480" cy="28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scape peak: E</a:t>
            </a:r>
            <a:r>
              <a:rPr b="1" lang="en-GB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– E</a:t>
            </a:r>
            <a:r>
              <a:rPr b="1" lang="en-GB" sz="1800" spc="-1" strike="noStrike" baseline="-25000">
                <a:solidFill>
                  <a:srgbClr val="008000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1"/>
          <p:cNvSpPr/>
          <p:nvPr/>
        </p:nvSpPr>
        <p:spPr>
          <a:xfrm>
            <a:off x="642240" y="6310440"/>
            <a:ext cx="770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08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19076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609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Gerade Verbindung mit Pfeil 11"/>
          <p:cNvCxnSpPr/>
          <p:nvPr/>
        </p:nvCxnSpPr>
        <p:spPr>
          <a:xfrm flipH="1">
            <a:off x="5854320" y="5231880"/>
            <a:ext cx="699120" cy="52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Text Box 32"/>
          <p:cNvSpPr/>
          <p:nvPr/>
        </p:nvSpPr>
        <p:spPr>
          <a:xfrm>
            <a:off x="291960" y="4137120"/>
            <a:ext cx="2882880" cy="175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 (in NaI-cryst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haracteristic X-rays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hoto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Gerade Verbindung mit Pfeil 10"/>
          <p:cNvCxnSpPr/>
          <p:nvPr/>
        </p:nvCxnSpPr>
        <p:spPr>
          <a:xfrm>
            <a:off x="3187800" y="5016600"/>
            <a:ext cx="12196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 Box 32"/>
          <p:cNvSpPr/>
          <p:nvPr/>
        </p:nvSpPr>
        <p:spPr>
          <a:xfrm>
            <a:off x="5334120" y="4406760"/>
            <a:ext cx="32385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Bild 1" descr="Spectrometry_2heads_gamma_collim_80_NaI_0.10_Vacuum.tiff"/>
          <p:cNvPicPr/>
          <p:nvPr/>
        </p:nvPicPr>
        <p:blipFill>
          <a:blip r:embed="rId1"/>
          <a:srcRect l="0" t="49901" r="0" b="0"/>
          <a:stretch/>
        </p:blipFill>
        <p:spPr>
          <a:xfrm>
            <a:off x="3060720" y="3251160"/>
            <a:ext cx="5740560" cy="3175200"/>
          </a:xfrm>
          <a:prstGeom prst="rect">
            <a:avLst/>
          </a:prstGeom>
          <a:ln w="0">
            <a:noFill/>
          </a:ln>
        </p:spPr>
      </p:pic>
      <p:cxnSp>
        <p:nvCxnSpPr>
          <p:cNvPr id="181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sp>
        <p:nvSpPr>
          <p:cNvPr id="182" name="Text Box 32"/>
          <p:cNvSpPr/>
          <p:nvPr/>
        </p:nvSpPr>
        <p:spPr>
          <a:xfrm>
            <a:off x="6221520" y="3768840"/>
            <a:ext cx="23382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1"/>
          <p:cNvSpPr/>
          <p:nvPr/>
        </p:nvSpPr>
        <p:spPr>
          <a:xfrm>
            <a:off x="642240" y="6310440"/>
            <a:ext cx="770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08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19076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609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Gerade Verbindung mit Pfeil 11"/>
          <p:cNvCxnSpPr/>
          <p:nvPr/>
        </p:nvCxnSpPr>
        <p:spPr>
          <a:xfrm flipH="1">
            <a:off x="5854320" y="5231880"/>
            <a:ext cx="699120" cy="52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Text Box 32"/>
          <p:cNvSpPr/>
          <p:nvPr/>
        </p:nvSpPr>
        <p:spPr>
          <a:xfrm>
            <a:off x="1130400" y="445464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haracter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Gerade Verbindung mit Pfeil 10"/>
          <p:cNvCxnSpPr/>
          <p:nvPr/>
        </p:nvCxnSpPr>
        <p:spPr>
          <a:xfrm>
            <a:off x="3289320" y="5067000"/>
            <a:ext cx="111780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87" name="Bild 1" descr=""/>
          <p:cNvPicPr/>
          <p:nvPr/>
        </p:nvPicPr>
        <p:blipFill>
          <a:blip r:embed="rId2"/>
          <a:stretch/>
        </p:blipFill>
        <p:spPr>
          <a:xfrm>
            <a:off x="673200" y="36828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188" name="Bild 2" descr="Iodine_K_L_lines.tiff"/>
          <p:cNvPicPr/>
          <p:nvPr/>
        </p:nvPicPr>
        <p:blipFill>
          <a:blip r:embed="rId3"/>
          <a:stretch/>
        </p:blipFill>
        <p:spPr>
          <a:xfrm>
            <a:off x="0" y="1587600"/>
            <a:ext cx="9144000" cy="191124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3"/>
          <p:cNvSpPr/>
          <p:nvPr/>
        </p:nvSpPr>
        <p:spPr>
          <a:xfrm>
            <a:off x="2140200" y="99072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://xdb.lbl.gov/Section1/Periodic_Table/I_Web_dat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5334120" y="4406760"/>
            <a:ext cx="32385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2"/>
          <p:cNvSpPr/>
          <p:nvPr/>
        </p:nvSpPr>
        <p:spPr>
          <a:xfrm>
            <a:off x="542880" y="23796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6019920" y="4975200"/>
            <a:ext cx="3124080" cy="1789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601560" y="906480"/>
            <a:ext cx="386892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 shell-window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fig_starter_mac_70.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ild 1" descr="config_window.tiff"/>
          <p:cNvPicPr/>
          <p:nvPr/>
        </p:nvPicPr>
        <p:blipFill>
          <a:blip r:embed="rId1"/>
          <a:stretch/>
        </p:blipFill>
        <p:spPr>
          <a:xfrm>
            <a:off x="254160" y="1714680"/>
            <a:ext cx="5771880" cy="5054400"/>
          </a:xfrm>
          <a:prstGeom prst="rect">
            <a:avLst/>
          </a:prstGeom>
          <a:ln w="0">
            <a:noFill/>
          </a:ln>
        </p:spPr>
      </p:pic>
      <p:cxnSp>
        <p:nvCxnSpPr>
          <p:cNvPr id="195" name="Gerade Verbindung mit Pfeil 11"/>
          <p:cNvCxnSpPr/>
          <p:nvPr/>
        </p:nvCxnSpPr>
        <p:spPr>
          <a:xfrm flipH="1">
            <a:off x="5486040" y="6108480"/>
            <a:ext cx="838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96" name="Gerade Verbindung mit Pfeil 11"/>
          <p:cNvCxnSpPr/>
          <p:nvPr/>
        </p:nvCxnSpPr>
        <p:spPr>
          <a:xfrm flipH="1">
            <a:off x="5524200" y="5651280"/>
            <a:ext cx="838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2"/>
          <p:cNvSpPr/>
          <p:nvPr/>
        </p:nvSpPr>
        <p:spPr>
          <a:xfrm>
            <a:off x="542880" y="23796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76360" y="868320"/>
            <a:ext cx="628164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change selection presets in </a:t>
            </a: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pectrometry_Gamma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2"/>
          <p:cNvSpPr/>
          <p:nvPr/>
        </p:nvSpPr>
        <p:spPr>
          <a:xfrm>
            <a:off x="693000" y="2133720"/>
            <a:ext cx="8131320" cy="3013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meraType: 2heads; 1head; 4head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PointThetaPhi: 0 90; 90 0; -90 0; 89 90; 15 30; 30 30; 45 45; 60 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OnOff: novisu; vi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Activity: 100 Bq; 1000. Bq; 10000. Bq; 100000. B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Material: NaI; BGO; LSO; GSO; PWO; LuAP; YAP; CZT; Silicon; Lead; Tungs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VolMaterial: Vacuum; Water; Plexiglass; Air; PV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Type: gamma_collim; gamm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Energy: 80; 10; 50; 60; 90; 100; 120; 140; 160; 200; 240; 364; 511; 1000; 16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_res: 0.10; 0.00; 0.01; 0.05; 0.15; 0.20; 0.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Gerade Verbindung mit Pfeil 11"/>
          <p:cNvCxnSpPr/>
          <p:nvPr/>
        </p:nvCxnSpPr>
        <p:spPr>
          <a:xfrm flipH="1">
            <a:off x="4782600" y="1460160"/>
            <a:ext cx="424800" cy="648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2"/>
          <p:cNvSpPr/>
          <p:nvPr/>
        </p:nvSpPr>
        <p:spPr>
          <a:xfrm>
            <a:off x="466560" y="9828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Result: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ild 1" descr="result_window.tiff"/>
          <p:cNvPicPr/>
          <p:nvPr/>
        </p:nvPicPr>
        <p:blipFill>
          <a:blip r:embed="rId1"/>
          <a:stretch/>
        </p:blipFill>
        <p:spPr>
          <a:xfrm>
            <a:off x="355680" y="736560"/>
            <a:ext cx="800100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190440" y="685800"/>
            <a:ext cx="8953560" cy="56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rometry_Gam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s to the basics of gamma spectra obtained from a scintillation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ir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pter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in Nuclear Medic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herry, Sorensen &amp; Phelps,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GATE-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s in two versi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 Code in C and for ROOT to calculate and plot relevant parameters d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on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392880" y="6216480"/>
            <a:ext cx="2708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2"/>
          <p:cNvSpPr/>
          <p:nvPr/>
        </p:nvSpPr>
        <p:spPr>
          <a:xfrm>
            <a:off x="368280" y="5092560"/>
            <a:ext cx="4406760" cy="18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mpton_Sc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Compton_Scatter_Fig_6_12.tiff"/>
          <p:cNvPicPr/>
          <p:nvPr/>
        </p:nvPicPr>
        <p:blipFill>
          <a:blip r:embed="rId1"/>
          <a:srcRect l="0" t="0" r="0" b="18870"/>
          <a:stretch/>
        </p:blipFill>
        <p:spPr>
          <a:xfrm>
            <a:off x="114480" y="50760"/>
            <a:ext cx="5494320" cy="4203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4737240" y="3581280"/>
            <a:ext cx="4190760" cy="346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[1 + (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0.511) (1 − co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−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 180-degree scatt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[1 + (2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0.511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092560" y="17784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41200" y="33012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600880" y="2451240"/>
            <a:ext cx="876240" cy="954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2"/>
          <p:cNvSpPr/>
          <p:nvPr/>
        </p:nvSpPr>
        <p:spPr>
          <a:xfrm>
            <a:off x="957600" y="4229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feld 1"/>
          <p:cNvSpPr/>
          <p:nvPr/>
        </p:nvSpPr>
        <p:spPr>
          <a:xfrm>
            <a:off x="419040" y="216000"/>
            <a:ext cx="8128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(int i=0; i&lt;n_values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incident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[i] = (i+1) * e_st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recoil electron; -&gt; "compton electron" -&gt; "compton ed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ax_re[i] = E_gamma[i] * E_gamma[i] / (E_gamma[i] + m_electron_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back-scattered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_sc[i] = E_gamma[i] - Emax_re[i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ntf( " E_gamma: %f  Emax_re: %f  Emin_sc: %f  (MeV) \n", E_gamma[i], Emax_re[i], Emin_sc[i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10000  Emax_re: 0.000377  Emin_sc: 0.009623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20000  Emax_re: 0.001452  Emin_sc: 0.0185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30000  Emax_re: 0.003152  Emin_sc: 0.0268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40000  Emax_re: 0.005415  Emin_sc: 0.034585  (M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60000  Emax_re: 0.475806  Emin_sc: 0.184194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70000  Emax_re: 0.485035  Emin_sc: 0.184965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80000  Emax_re: 0.494281  Emin_sc: 0.185719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90000  Emax_re: 0.503543  Emin_sc: 0.186457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700000  Emax_re: 0.512820  Emin_sc: 0.187180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unning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ot created via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9" name="Gerade Verbindung 9"/>
          <p:cNvSpPr/>
          <p:nvPr/>
        </p:nvSpPr>
        <p:spPr>
          <a:xfrm>
            <a:off x="7074000" y="132084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14"/>
          <p:cNvSpPr/>
          <p:nvPr/>
        </p:nvSpPr>
        <p:spPr>
          <a:xfrm flipV="1">
            <a:off x="1015920" y="21078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erade Verbindung 19"/>
          <p:cNvSpPr/>
          <p:nvPr/>
        </p:nvSpPr>
        <p:spPr>
          <a:xfrm flipV="1">
            <a:off x="990720" y="453348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1676520" y="266688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 = 660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ke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7174080" y="1038240"/>
            <a:ext cx="11700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659480" y="1851120"/>
            <a:ext cx="117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2743200" y="1244520"/>
            <a:ext cx="1600200" cy="13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gamm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catt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t ~180 °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ur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6"/>
          <p:cNvCxnSpPr/>
          <p:nvPr/>
        </p:nvCxnSpPr>
        <p:spPr>
          <a:xfrm flipH="1">
            <a:off x="6857280" y="1993680"/>
            <a:ext cx="762840" cy="85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Gerade Verbindung mit Pfeil 10"/>
          <p:cNvCxnSpPr/>
          <p:nvPr/>
        </p:nvCxnSpPr>
        <p:spPr>
          <a:xfrm flipH="1">
            <a:off x="5091840" y="2476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Gerade Verbindung mit Pfeil 11"/>
          <p:cNvCxnSpPr/>
          <p:nvPr/>
        </p:nvCxnSpPr>
        <p:spPr>
          <a:xfrm>
            <a:off x="3530160" y="260352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 Box 32"/>
          <p:cNvSpPr/>
          <p:nvPr/>
        </p:nvSpPr>
        <p:spPr>
          <a:xfrm>
            <a:off x="6392880" y="6216480"/>
            <a:ext cx="2708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10-05T13:40:26Z</dcterms:modified>
  <cp:revision>612</cp:revision>
  <dc:subject/>
  <dc:title>Folie 1</dc:title>
</cp:coreProperties>
</file>