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move the slide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C785-6F3A-4336-8B2F-034711359738}" type="slidenum">
              <a:rPr b="0" lang="de-DE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5451F-CA0A-4F2D-BBA7-95C6A5E4D02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A961-D71B-466A-AF50-64153EDA37B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E610-DB81-41B2-BE03-562ACF11ABE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1BD7-FAA3-4DEC-A08D-BBDCB168C0F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7A9E-A132-49C5-B9BF-477BAAF7820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2E3F-9083-49F3-B862-912D782B8C7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336B-9208-4C03-AFD4-B8A104B310A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E414-68DE-4443-8DA8-CBB993CB708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07B9-8F56-4116-B98D-4FFEEB6E05E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C9C6-662C-4E87-9A94-52E9BE7B112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B7CF-FECA-4B22-A0EB-5E8CD75979B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E215-6712-4323-BCEA-BB07CBBCF95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34A1-6EBD-4747-9346-B2C726E838C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53B1-2206-4FAA-A6F4-BEE1B6E446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4AF7-C596-42AD-9EB6-3CFC8A46929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B644-DFFB-4834-8E8A-89531A64C08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08AEC-DF31-4F62-8953-6C447AF9966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4DB3-AB36-4406-97E3-9676C6DCF72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EC57-B15A-4FF8-B23E-E6E1E772552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1440" y="0"/>
            <a:ext cx="12564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2"/>
          <p:cNvSpPr/>
          <p:nvPr/>
        </p:nvSpPr>
        <p:spPr>
          <a:xfrm>
            <a:off x="457200" y="6477120"/>
            <a:ext cx="83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EduGATE  - 2014 -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U Pietrzyk / M Gaens -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INM – FZ-Juelich / University of Wuppertal - Germany</a:t>
            </a:r>
            <a:r>
              <a:rPr b="0" lang="de-DE" sz="1000" spc="-1" strike="noStrike">
                <a:solidFill>
                  <a:srgbClr val="3a6f8a"/>
                </a:solidFill>
                <a:latin typeface="Arial"/>
              </a:rPr>
              <a:t>          </a:t>
            </a:r>
            <a:r>
              <a:rPr b="0" lang="de-DE" sz="1000" spc="-1" strike="noStrike">
                <a:solidFill>
                  <a:srgbClr val="005b82"/>
                </a:solidFill>
                <a:latin typeface="Arial"/>
              </a:rPr>
              <a:t>Slide </a:t>
            </a:r>
            <a:fld id="{4E015A4B-6B9E-49E2-8972-C015C0A2EC7B}" type="slidenum">
              <a:rPr b="0" lang="de-DE" sz="1000" spc="-1" strike="noStrike">
                <a:solidFill>
                  <a:srgbClr val="005b8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3" descr="Logo_FZ_Jülich_NEU_rgb"/>
          <p:cNvPicPr/>
          <p:nvPr/>
        </p:nvPicPr>
        <p:blipFill>
          <a:blip r:embed="rId2"/>
          <a:stretch/>
        </p:blipFill>
        <p:spPr>
          <a:xfrm>
            <a:off x="7029360" y="136440"/>
            <a:ext cx="1447920" cy="47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-1440" y="2286000"/>
            <a:ext cx="9144000" cy="4572000"/>
          </a:xfrm>
          <a:prstGeom prst="rect">
            <a:avLst/>
          </a:prstGeom>
          <a:solidFill>
            <a:srgbClr val="005b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2286000"/>
            <a:ext cx="125280" cy="2286000"/>
          </a:xfrm>
          <a:prstGeom prst="rect">
            <a:avLst/>
          </a:prstGeom>
          <a:solidFill>
            <a:srgbClr val="005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0" y="4572000"/>
            <a:ext cx="125280" cy="2286000"/>
          </a:xfrm>
          <a:prstGeom prst="rect">
            <a:avLst/>
          </a:prstGeom>
          <a:solidFill>
            <a:srgbClr val="5153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115920" y="0"/>
            <a:ext cx="1252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14480" y="2286000"/>
            <a:ext cx="125280" cy="2286000"/>
          </a:xfrm>
          <a:prstGeom prst="rect">
            <a:avLst/>
          </a:prstGeom>
          <a:solidFill>
            <a:srgbClr val="b9bb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14480" y="4572000"/>
            <a:ext cx="125280" cy="22860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 rot="16200000">
            <a:off x="-1078920" y="931320"/>
            <a:ext cx="2478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5b82"/>
                </a:solidFill>
                <a:latin typeface="Arial MT Bd"/>
                <a:ea typeface="Arial"/>
              </a:rPr>
              <a:t>Mitglied der Helmholtz-Gemeinsch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Logo_FZ_Jülich_NEU_rgb"/>
          <p:cNvPicPr/>
          <p:nvPr/>
        </p:nvPicPr>
        <p:blipFill>
          <a:blip r:embed="rId2"/>
          <a:stretch/>
        </p:blipFill>
        <p:spPr>
          <a:xfrm>
            <a:off x="6234120" y="254160"/>
            <a:ext cx="2320920" cy="814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Logo_FZ_Jülich_NEU_rgb"/>
          <p:cNvPicPr/>
          <p:nvPr/>
        </p:nvPicPr>
        <p:blipFill>
          <a:blip r:embed="rId3"/>
          <a:stretch/>
        </p:blipFill>
        <p:spPr>
          <a:xfrm>
            <a:off x="6172200" y="254160"/>
            <a:ext cx="2514600" cy="8143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5b82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550"/>
              </a:spcBef>
              <a:buClr>
                <a:srgbClr val="005b8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550"/>
              </a:spcBef>
              <a:buClr>
                <a:srgbClr val="009ee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u.pietrzyk@fz-juelich.de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8920" y="2192040"/>
            <a:ext cx="8937720" cy="19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trometry_Gamma</a:t>
            </a:r>
            <a:br>
              <a:rPr sz="32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A New Module For Th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EduGATE Project</a:t>
            </a:r>
            <a:endParaRPr b="1" lang="en-US" sz="3200" spc="-1" strike="noStrike">
              <a:solidFill>
                <a:srgbClr val="005b8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98520" y="3993840"/>
            <a:ext cx="8569440" cy="26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we Pietrzyk &amp; Michaela Gaens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stitute of Neurosciences and Medicine (INM), Research Center Juelich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partment of Mathematics and Natural Sciences, University of Wuppertal, Germa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.pietrzyk@fz-juelich.d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r uwe.pietrzyk@uni-wuppertal.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(Basic Paper </a:t>
            </a:r>
            <a:r>
              <a:rPr b="0" lang="de-DE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ffffff"/>
                </a:solidFill>
                <a:latin typeface="Arial"/>
              </a:rPr>
              <a:t> „Zeitschrift für Medizinische Physik“ / Z. Med. Phys. 23 (2013) 65-7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2"/>
          <p:cNvSpPr/>
          <p:nvPr/>
        </p:nvSpPr>
        <p:spPr>
          <a:xfrm>
            <a:off x="620640" y="174600"/>
            <a:ext cx="8244000" cy="581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Spectrometry_Gamma_</a:t>
            </a: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Bild 1" descr="G4OpenGL_1.png"/>
          <p:cNvPicPr/>
          <p:nvPr/>
        </p:nvPicPr>
        <p:blipFill>
          <a:blip r:embed="rId1"/>
          <a:srcRect l="13909" t="8592" r="17386" b="19635"/>
          <a:stretch/>
        </p:blipFill>
        <p:spPr>
          <a:xfrm>
            <a:off x="241200" y="1092240"/>
            <a:ext cx="4267440" cy="4457520"/>
          </a:xfrm>
          <a:prstGeom prst="rect">
            <a:avLst/>
          </a:prstGeom>
          <a:ln w="0">
            <a:noFill/>
          </a:ln>
        </p:spPr>
      </p:pic>
      <p:pic>
        <p:nvPicPr>
          <p:cNvPr id="134" name="Bild 2" descr="G4OpenGL_2.png"/>
          <p:cNvPicPr/>
          <p:nvPr/>
        </p:nvPicPr>
        <p:blipFill>
          <a:blip r:embed="rId2"/>
          <a:srcRect l="11112" t="11962" r="11969" b="12535"/>
          <a:stretch/>
        </p:blipFill>
        <p:spPr>
          <a:xfrm>
            <a:off x="4562640" y="1112760"/>
            <a:ext cx="4530600" cy="4446720"/>
          </a:xfrm>
          <a:prstGeom prst="rect">
            <a:avLst/>
          </a:prstGeom>
          <a:ln w="0">
            <a:noFill/>
          </a:ln>
        </p:spPr>
      </p:pic>
      <p:cxnSp>
        <p:nvCxnSpPr>
          <p:cNvPr id="135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sp>
        <p:nvSpPr>
          <p:cNvPr id="136" name="Text Box 32"/>
          <p:cNvSpPr/>
          <p:nvPr/>
        </p:nvSpPr>
        <p:spPr>
          <a:xfrm>
            <a:off x="836640" y="4797360"/>
            <a:ext cx="11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hea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2"/>
          <p:cNvSpPr/>
          <p:nvPr/>
        </p:nvSpPr>
        <p:spPr>
          <a:xfrm>
            <a:off x="2982960" y="4809960"/>
            <a:ext cx="11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00"/>
                </a:solidFill>
                <a:latin typeface="Arial"/>
              </a:rPr>
              <a:t>hea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32"/>
          <p:cNvSpPr/>
          <p:nvPr/>
        </p:nvSpPr>
        <p:spPr>
          <a:xfrm>
            <a:off x="542880" y="237960"/>
            <a:ext cx="30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Basic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1481040" y="5681520"/>
            <a:ext cx="6618240" cy="858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implifi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 crystals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gamma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Bild 1" descr="G4OpenGL_1.png"/>
          <p:cNvPicPr/>
          <p:nvPr/>
        </p:nvPicPr>
        <p:blipFill>
          <a:blip r:embed="rId1"/>
          <a:srcRect l="13909" t="8592" r="17386" b="19635"/>
          <a:stretch/>
        </p:blipFill>
        <p:spPr>
          <a:xfrm>
            <a:off x="85680" y="1092240"/>
            <a:ext cx="4578480" cy="4457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2"/>
          <p:cNvSpPr/>
          <p:nvPr/>
        </p:nvSpPr>
        <p:spPr>
          <a:xfrm>
            <a:off x="795240" y="4797360"/>
            <a:ext cx="120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2"/>
          <p:cNvSpPr/>
          <p:nvPr/>
        </p:nvSpPr>
        <p:spPr>
          <a:xfrm>
            <a:off x="2940120" y="48099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5"/>
          <p:cNvSpPr/>
          <p:nvPr/>
        </p:nvSpPr>
        <p:spPr>
          <a:xfrm>
            <a:off x="4660920" y="1092240"/>
            <a:ext cx="4483080" cy="44575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opposing NaI-crystals allow to det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ck-scattered g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racteristic X-ray, escaping from the crystal (head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5"/>
          <p:cNvSpPr/>
          <p:nvPr/>
        </p:nvSpPr>
        <p:spPr>
          <a:xfrm>
            <a:off x="1376280" y="5834160"/>
            <a:ext cx="6675480" cy="85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simplified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ma Camer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r>
              <a:rPr b="1" lang="en-US" sz="1800" spc="-1" strike="noStrike">
                <a:solidFill>
                  <a:srgbClr val="3366ff"/>
                </a:solidFill>
                <a:latin typeface="Arial"/>
                <a:ea typeface="Arial"/>
              </a:rPr>
              <a:t>crysta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, no collimato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collimat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931ff"/>
                </a:solidFill>
                <a:latin typeface="Arial"/>
                <a:ea typeface="Arial"/>
              </a:rPr>
              <a:t>gamma sourc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rays directed towards head 0 !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76320"/>
            <a:ext cx="8839440" cy="6006960"/>
          </a:xfrm>
          <a:prstGeom prst="rect">
            <a:avLst/>
          </a:prstGeom>
          <a:ln w="0">
            <a:noFill/>
          </a:ln>
        </p:spPr>
      </p:pic>
      <p:sp>
        <p:nvSpPr>
          <p:cNvPr id="146" name="Gerade Verbindung 9"/>
          <p:cNvSpPr/>
          <p:nvPr/>
        </p:nvSpPr>
        <p:spPr>
          <a:xfrm>
            <a:off x="5702400" y="68580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Gerade Verbindung 14"/>
          <p:cNvSpPr/>
          <p:nvPr/>
        </p:nvSpPr>
        <p:spPr>
          <a:xfrm flipV="1">
            <a:off x="1015920" y="25524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Gerade Verbindung 19"/>
          <p:cNvSpPr/>
          <p:nvPr/>
        </p:nvSpPr>
        <p:spPr>
          <a:xfrm flipV="1">
            <a:off x="990720" y="402552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"/>
          <p:cNvSpPr/>
          <p:nvPr/>
        </p:nvSpPr>
        <p:spPr>
          <a:xfrm>
            <a:off x="4851360" y="800280"/>
            <a:ext cx="1676520" cy="46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 = 511Ke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feld 1"/>
          <p:cNvSpPr/>
          <p:nvPr/>
        </p:nvSpPr>
        <p:spPr>
          <a:xfrm>
            <a:off x="643680" y="6310440"/>
            <a:ext cx="812916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51000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1" lang="sv-SE" sz="2000" spc="-1" strike="noStrike">
                <a:solidFill>
                  <a:srgbClr val="000000"/>
                </a:solidFill>
                <a:latin typeface="Arial"/>
              </a:rPr>
              <a:t>0.339778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1" lang="sv-SE" sz="2000" spc="-1" strike="noStrike">
                <a:solidFill>
                  <a:srgbClr val="ff0000"/>
                </a:solidFill>
                <a:latin typeface="Arial"/>
              </a:rPr>
              <a:t>0.170222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2"/>
          <p:cNvSpPr/>
          <p:nvPr/>
        </p:nvSpPr>
        <p:spPr>
          <a:xfrm>
            <a:off x="557280" y="911160"/>
            <a:ext cx="16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511 k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triangle" w="med"/>
          </a:ln>
        </p:spPr>
      </p:cxnSp>
      <p:pic>
        <p:nvPicPr>
          <p:cNvPr id="153" name="Bild 2" descr="Spectrometry_2heads_gamma_collim_511_NaI_0.10_Vacuum.tiff"/>
          <p:cNvPicPr/>
          <p:nvPr/>
        </p:nvPicPr>
        <p:blipFill>
          <a:blip r:embed="rId1"/>
          <a:stretch/>
        </p:blipFill>
        <p:spPr>
          <a:xfrm>
            <a:off x="2057400" y="-27000"/>
            <a:ext cx="6692760" cy="68994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2"/>
          <p:cNvSpPr/>
          <p:nvPr/>
        </p:nvSpPr>
        <p:spPr>
          <a:xfrm>
            <a:off x="3313080" y="289080"/>
            <a:ext cx="23385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6005520" y="3908520"/>
            <a:ext cx="23385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2"/>
          <p:cNvSpPr/>
          <p:nvPr/>
        </p:nvSpPr>
        <p:spPr>
          <a:xfrm>
            <a:off x="7288200" y="263520"/>
            <a:ext cx="117000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4064040" y="923760"/>
            <a:ext cx="2374920" cy="565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il electron </a:t>
            </a:r>
            <a:r>
              <a:rPr b="1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mpton 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2"/>
          <p:cNvSpPr/>
          <p:nvPr/>
        </p:nvSpPr>
        <p:spPr>
          <a:xfrm>
            <a:off x="4940280" y="4660920"/>
            <a:ext cx="346716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mma, scattered at ~18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rom head 0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Gerade Verbindung mit Pfeil 6"/>
          <p:cNvCxnSpPr/>
          <p:nvPr/>
        </p:nvCxnSpPr>
        <p:spPr>
          <a:xfrm flipH="1">
            <a:off x="7187760" y="838080"/>
            <a:ext cx="394560" cy="356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0" name="Gerade Verbindung mit Pfeil 10"/>
          <p:cNvCxnSpPr/>
          <p:nvPr/>
        </p:nvCxnSpPr>
        <p:spPr>
          <a:xfrm flipH="1">
            <a:off x="5320440" y="1549440"/>
            <a:ext cx="644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1" name="Gerade Verbindung mit Pfeil 11"/>
          <p:cNvCxnSpPr/>
          <p:nvPr/>
        </p:nvCxnSpPr>
        <p:spPr>
          <a:xfrm flipH="1">
            <a:off x="4393440" y="4889520"/>
            <a:ext cx="686520" cy="14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2" name="Text Box 32"/>
          <p:cNvSpPr/>
          <p:nvPr/>
        </p:nvSpPr>
        <p:spPr>
          <a:xfrm>
            <a:off x="444600" y="3276720"/>
            <a:ext cx="28954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ote: different scal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Bild 2" descr="Fig_10_4.tiff"/>
          <p:cNvPicPr/>
          <p:nvPr/>
        </p:nvPicPr>
        <p:blipFill>
          <a:blip r:embed="rId1"/>
          <a:stretch/>
        </p:blipFill>
        <p:spPr>
          <a:xfrm>
            <a:off x="1333440" y="71280"/>
            <a:ext cx="5892840" cy="6723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2"/>
          <p:cNvSpPr/>
          <p:nvPr/>
        </p:nvSpPr>
        <p:spPr>
          <a:xfrm>
            <a:off x="6006960" y="0"/>
            <a:ext cx="3137040" cy="309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9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ome more details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2"/>
          <p:cNvSpPr/>
          <p:nvPr/>
        </p:nvSpPr>
        <p:spPr>
          <a:xfrm>
            <a:off x="6251400" y="6483240"/>
            <a:ext cx="24274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ild 1" descr="Spectrometry_2heads_gamma_collim_80_NaI_0.10_Vacuum.tiff"/>
          <p:cNvPicPr/>
          <p:nvPr/>
        </p:nvPicPr>
        <p:blipFill>
          <a:blip r:embed="rId1"/>
          <a:stretch/>
        </p:blipFill>
        <p:spPr>
          <a:xfrm>
            <a:off x="3060720" y="88920"/>
            <a:ext cx="5740560" cy="63374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2"/>
          <p:cNvSpPr/>
          <p:nvPr/>
        </p:nvSpPr>
        <p:spPr>
          <a:xfrm>
            <a:off x="557280" y="911160"/>
            <a:ext cx="160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80 ke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69" name="Text Box 32"/>
          <p:cNvSpPr/>
          <p:nvPr/>
        </p:nvSpPr>
        <p:spPr>
          <a:xfrm>
            <a:off x="3770280" y="390600"/>
            <a:ext cx="210996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2"/>
          <p:cNvSpPr/>
          <p:nvPr/>
        </p:nvSpPr>
        <p:spPr>
          <a:xfrm>
            <a:off x="6221520" y="3768840"/>
            <a:ext cx="23382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2"/>
          <p:cNvSpPr/>
          <p:nvPr/>
        </p:nvSpPr>
        <p:spPr>
          <a:xfrm>
            <a:off x="596880" y="3137040"/>
            <a:ext cx="2895480" cy="258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note: different scale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2"/>
          <p:cNvSpPr/>
          <p:nvPr/>
        </p:nvSpPr>
        <p:spPr>
          <a:xfrm>
            <a:off x="4013280" y="1038240"/>
            <a:ext cx="113040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sc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Gerade Verbindung mit Pfeil 10"/>
          <p:cNvCxnSpPr/>
          <p:nvPr/>
        </p:nvCxnSpPr>
        <p:spPr>
          <a:xfrm>
            <a:off x="4711680" y="2057040"/>
            <a:ext cx="394560" cy="508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4" name="Text Box 32"/>
          <p:cNvSpPr/>
          <p:nvPr/>
        </p:nvSpPr>
        <p:spPr>
          <a:xfrm>
            <a:off x="3822840" y="3137040"/>
            <a:ext cx="4038480" cy="2808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scape peak: E</a:t>
            </a:r>
            <a:r>
              <a:rPr b="1" lang="en-GB" sz="1800" spc="-1" strike="noStrike" baseline="-25000">
                <a:solidFill>
                  <a:srgbClr val="0080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 – E</a:t>
            </a:r>
            <a:r>
              <a:rPr b="1" lang="en-GB" sz="1800" spc="-1" strike="noStrike" baseline="-25000">
                <a:solidFill>
                  <a:srgbClr val="008000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feld 11"/>
          <p:cNvSpPr/>
          <p:nvPr/>
        </p:nvSpPr>
        <p:spPr>
          <a:xfrm>
            <a:off x="642240" y="6310440"/>
            <a:ext cx="770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08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19076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60924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Gerade Verbindung mit Pfeil 11"/>
          <p:cNvCxnSpPr/>
          <p:nvPr/>
        </p:nvCxnSpPr>
        <p:spPr>
          <a:xfrm flipH="1">
            <a:off x="5854320" y="5231880"/>
            <a:ext cx="699120" cy="521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7" name="Text Box 32"/>
          <p:cNvSpPr/>
          <p:nvPr/>
        </p:nvSpPr>
        <p:spPr>
          <a:xfrm>
            <a:off x="291960" y="4137120"/>
            <a:ext cx="2882880" cy="1755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Iodine (in NaI-crystal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haracteristic X-rays fo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hotoelect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bsor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Gerade Verbindung mit Pfeil 10"/>
          <p:cNvCxnSpPr/>
          <p:nvPr/>
        </p:nvCxnSpPr>
        <p:spPr>
          <a:xfrm>
            <a:off x="3187800" y="5016600"/>
            <a:ext cx="121968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9" name="Text Box 32"/>
          <p:cNvSpPr/>
          <p:nvPr/>
        </p:nvSpPr>
        <p:spPr>
          <a:xfrm>
            <a:off x="5334120" y="4406760"/>
            <a:ext cx="323856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mma, scattered at ~18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rom head 0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Bild 1" descr="Spectrometry_2heads_gamma_collim_80_NaI_0.10_Vacuum.tiff"/>
          <p:cNvPicPr/>
          <p:nvPr/>
        </p:nvPicPr>
        <p:blipFill>
          <a:blip r:embed="rId1"/>
          <a:srcRect l="0" t="49901" r="0" b="0"/>
          <a:stretch/>
        </p:blipFill>
        <p:spPr>
          <a:xfrm>
            <a:off x="3060720" y="3251160"/>
            <a:ext cx="5740560" cy="3175200"/>
          </a:xfrm>
          <a:prstGeom prst="rect">
            <a:avLst/>
          </a:prstGeom>
          <a:ln w="0">
            <a:noFill/>
          </a:ln>
        </p:spPr>
      </p:pic>
      <p:cxnSp>
        <p:nvCxnSpPr>
          <p:cNvPr id="181" name="Gerade Verbindung mit Pfeil 4"/>
          <p:cNvCxnSpPr/>
          <p:nvPr/>
        </p:nvCxnSpPr>
        <p:spPr>
          <a:xfrm>
            <a:off x="2451240" y="3936600"/>
            <a:ext cx="978480" cy="26280"/>
          </a:xfrm>
          <a:prstGeom prst="straightConnector1">
            <a:avLst/>
          </a:prstGeom>
          <a:ln w="38160">
            <a:solidFill>
              <a:srgbClr val="ffffff"/>
            </a:solidFill>
            <a:prstDash val="sysDash"/>
            <a:miter/>
            <a:tailEnd len="med" type="arrow" w="med"/>
          </a:ln>
        </p:spPr>
      </p:cxnSp>
      <p:sp>
        <p:nvSpPr>
          <p:cNvPr id="182" name="Text Box 32"/>
          <p:cNvSpPr/>
          <p:nvPr/>
        </p:nvSpPr>
        <p:spPr>
          <a:xfrm>
            <a:off x="6221520" y="3768840"/>
            <a:ext cx="23382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head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feld 11"/>
          <p:cNvSpPr/>
          <p:nvPr/>
        </p:nvSpPr>
        <p:spPr>
          <a:xfrm>
            <a:off x="642240" y="6310440"/>
            <a:ext cx="770400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E_gamma: </a:t>
            </a:r>
            <a:r>
              <a:rPr b="1" lang="sv-SE" sz="2000" spc="-1" strike="noStrike">
                <a:solidFill>
                  <a:srgbClr val="008000"/>
                </a:solidFill>
                <a:latin typeface="Arial"/>
              </a:rPr>
              <a:t>0.080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ax_re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19076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Emin_sc: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.060924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(Me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Gerade Verbindung mit Pfeil 11"/>
          <p:cNvCxnSpPr/>
          <p:nvPr/>
        </p:nvCxnSpPr>
        <p:spPr>
          <a:xfrm flipH="1">
            <a:off x="5854320" y="5231880"/>
            <a:ext cx="699120" cy="521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Text Box 32"/>
          <p:cNvSpPr/>
          <p:nvPr/>
        </p:nvSpPr>
        <p:spPr>
          <a:xfrm>
            <a:off x="1130400" y="4454640"/>
            <a:ext cx="204444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Io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characterist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x-r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Gerade Verbindung mit Pfeil 10"/>
          <p:cNvCxnSpPr/>
          <p:nvPr/>
        </p:nvCxnSpPr>
        <p:spPr>
          <a:xfrm>
            <a:off x="3289320" y="5067000"/>
            <a:ext cx="1117800" cy="407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87" name="Bild 1" descr=""/>
          <p:cNvPicPr/>
          <p:nvPr/>
        </p:nvPicPr>
        <p:blipFill>
          <a:blip r:embed="rId2"/>
          <a:stretch/>
        </p:blipFill>
        <p:spPr>
          <a:xfrm>
            <a:off x="673200" y="368280"/>
            <a:ext cx="1066680" cy="1193760"/>
          </a:xfrm>
          <a:prstGeom prst="rect">
            <a:avLst/>
          </a:prstGeom>
          <a:ln w="0">
            <a:noFill/>
          </a:ln>
        </p:spPr>
      </p:pic>
      <p:pic>
        <p:nvPicPr>
          <p:cNvPr id="188" name="Bild 2" descr="Iodine_K_L_lines.tiff"/>
          <p:cNvPicPr/>
          <p:nvPr/>
        </p:nvPicPr>
        <p:blipFill>
          <a:blip r:embed="rId3"/>
          <a:stretch/>
        </p:blipFill>
        <p:spPr>
          <a:xfrm>
            <a:off x="0" y="1587600"/>
            <a:ext cx="9144000" cy="1911240"/>
          </a:xfrm>
          <a:prstGeom prst="rect">
            <a:avLst/>
          </a:prstGeom>
          <a:ln w="0">
            <a:noFill/>
          </a:ln>
        </p:spPr>
      </p:pic>
      <p:sp>
        <p:nvSpPr>
          <p:cNvPr id="189" name="Textfeld 3"/>
          <p:cNvSpPr/>
          <p:nvPr/>
        </p:nvSpPr>
        <p:spPr>
          <a:xfrm>
            <a:off x="2140200" y="990720"/>
            <a:ext cx="65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ttp://xdb.lbl.gov/Section1/Periodic_Table/I_Web_data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2"/>
          <p:cNvSpPr/>
          <p:nvPr/>
        </p:nvSpPr>
        <p:spPr>
          <a:xfrm>
            <a:off x="5334120" y="4406760"/>
            <a:ext cx="323856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mma, scattered at ~180 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rom head 0 </a:t>
            </a:r>
            <a:r>
              <a:rPr b="1" lang="en-GB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ack-scatter 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2"/>
          <p:cNvSpPr/>
          <p:nvPr/>
        </p:nvSpPr>
        <p:spPr>
          <a:xfrm>
            <a:off x="542880" y="237960"/>
            <a:ext cx="625176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6019920" y="4975200"/>
            <a:ext cx="3124080" cy="17899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pecif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nergy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601560" y="906480"/>
            <a:ext cx="386892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a shell-window typ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fig_starter_mac_70.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Bild 1" descr="config_window.tiff"/>
          <p:cNvPicPr/>
          <p:nvPr/>
        </p:nvPicPr>
        <p:blipFill>
          <a:blip r:embed="rId1"/>
          <a:stretch/>
        </p:blipFill>
        <p:spPr>
          <a:xfrm>
            <a:off x="254160" y="1714680"/>
            <a:ext cx="5771880" cy="5054400"/>
          </a:xfrm>
          <a:prstGeom prst="rect">
            <a:avLst/>
          </a:prstGeom>
          <a:ln w="0">
            <a:noFill/>
          </a:ln>
        </p:spPr>
      </p:pic>
      <p:cxnSp>
        <p:nvCxnSpPr>
          <p:cNvPr id="195" name="Gerade Verbindung mit Pfeil 11"/>
          <p:cNvCxnSpPr/>
          <p:nvPr/>
        </p:nvCxnSpPr>
        <p:spPr>
          <a:xfrm flipH="1">
            <a:off x="5486040" y="6108480"/>
            <a:ext cx="83880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cxnSp>
        <p:nvCxnSpPr>
          <p:cNvPr id="196" name="Gerade Verbindung mit Pfeil 11"/>
          <p:cNvCxnSpPr/>
          <p:nvPr/>
        </p:nvCxnSpPr>
        <p:spPr>
          <a:xfrm flipH="1">
            <a:off x="5524200" y="5651280"/>
            <a:ext cx="838800" cy="108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32"/>
          <p:cNvSpPr/>
          <p:nvPr/>
        </p:nvSpPr>
        <p:spPr>
          <a:xfrm>
            <a:off x="542880" y="237960"/>
            <a:ext cx="625176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Starting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76360" y="868320"/>
            <a:ext cx="6281640" cy="68112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n change selection presets in </a:t>
            </a:r>
            <a:r>
              <a:rPr b="0" lang="de-DE" sz="1800" spc="-1" strike="noStrike">
                <a:solidFill>
                  <a:srgbClr val="008000"/>
                </a:solidFill>
                <a:latin typeface="Arial"/>
              </a:rPr>
              <a:t>Spectrometry_Gamma.t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feld 2"/>
          <p:cNvSpPr/>
          <p:nvPr/>
        </p:nvSpPr>
        <p:spPr>
          <a:xfrm>
            <a:off x="693000" y="2133720"/>
            <a:ext cx="8131320" cy="301356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meraType: 2heads; 1head; 4head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ewPointThetaPhi: 0 90; 90 0; -90 0; 89 90; 15 30; 30 30; 45 45; 60 6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OnOff: novisu; vis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Activity: 100 Bq; 1000. Bq; 10000. Bq; 100000. Bq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ystalMaterial: NaI; BGO; LSO; GSO; PWO; LuAP; YAP; CZT; Silicon; Lead; Tungste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VolMaterial: Vacuum; Water; Plexiglass; Air; PV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Type: gamma_collim; gamm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Energy: 80; 10; 50; 60; 90; 100; 120; 140; 160; 200; 240; 364; 511; 1000; 16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_res: 0.10; 0.00; 0.01; 0.05; 0.15; 0.20; 0.25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Gerade Verbindung mit Pfeil 11"/>
          <p:cNvCxnSpPr/>
          <p:nvPr/>
        </p:nvCxnSpPr>
        <p:spPr>
          <a:xfrm flipH="1">
            <a:off x="4782600" y="1460160"/>
            <a:ext cx="424800" cy="648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32"/>
          <p:cNvSpPr/>
          <p:nvPr/>
        </p:nvSpPr>
        <p:spPr>
          <a:xfrm>
            <a:off x="466560" y="98280"/>
            <a:ext cx="6251760" cy="5205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0000"/>
                </a:solidFill>
                <a:latin typeface="Arial"/>
              </a:rPr>
              <a:t>Result: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 Setup (Gate_v7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ild 1" descr="result_window.tiff"/>
          <p:cNvPicPr/>
          <p:nvPr/>
        </p:nvPicPr>
        <p:blipFill>
          <a:blip r:embed="rId1"/>
          <a:stretch/>
        </p:blipFill>
        <p:spPr>
          <a:xfrm>
            <a:off x="355680" y="736560"/>
            <a:ext cx="800100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2"/>
          <p:cNvSpPr/>
          <p:nvPr/>
        </p:nvSpPr>
        <p:spPr>
          <a:xfrm>
            <a:off x="326880" y="1415880"/>
            <a:ext cx="8616960" cy="375084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ng is the way of theor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ort and effective by exampl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Lucius Annaeu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ne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the Young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pistulae mor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5"/>
          <p:cNvSpPr/>
          <p:nvPr/>
        </p:nvSpPr>
        <p:spPr>
          <a:xfrm>
            <a:off x="190440" y="685800"/>
            <a:ext cx="8953560" cy="56894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8002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pectrometry_Gam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es to the basics of gamma spectra obtained from a scintillation det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pired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pter 1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hysics in Nuclear Medic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Cherry, Sorensen &amp; Phelps, 201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ides GATE-mac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es in two versions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as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amp;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 Code in C and for ROOT to calculate and plot relevant parameters du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ton Sc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6392880" y="6216480"/>
            <a:ext cx="27082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2"/>
          <p:cNvSpPr/>
          <p:nvPr/>
        </p:nvSpPr>
        <p:spPr>
          <a:xfrm>
            <a:off x="368280" y="5092560"/>
            <a:ext cx="4406760" cy="181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c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mpton_Sca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Bild 1" descr="Compton_Scatter_Fig_6_12.tiff"/>
          <p:cNvPicPr/>
          <p:nvPr/>
        </p:nvPicPr>
        <p:blipFill>
          <a:blip r:embed="rId1"/>
          <a:srcRect l="0" t="0" r="0" b="18870"/>
          <a:stretch/>
        </p:blipFill>
        <p:spPr>
          <a:xfrm>
            <a:off x="114480" y="50760"/>
            <a:ext cx="5494320" cy="4203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4737240" y="3581280"/>
            <a:ext cx="4190760" cy="34624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[1 + ( E</a:t>
            </a:r>
            <a:r>
              <a:rPr b="0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 /0.511) (1 − cos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−  E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for 180-degree scatter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[1 + (2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/0.511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ax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= 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– E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0" lang="de-DE" sz="2000" spc="-1" strike="noStrike" baseline="30000">
                <a:solidFill>
                  <a:srgbClr val="000000"/>
                </a:solidFill>
                <a:latin typeface="Arial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2"/>
          <p:cNvSpPr/>
          <p:nvPr/>
        </p:nvSpPr>
        <p:spPr>
          <a:xfrm>
            <a:off x="5092560" y="17784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sc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2"/>
          <p:cNvSpPr/>
          <p:nvPr/>
        </p:nvSpPr>
        <p:spPr>
          <a:xfrm>
            <a:off x="241200" y="330120"/>
            <a:ext cx="711360" cy="8931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600880" y="2451240"/>
            <a:ext cx="876240" cy="9543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(E</a:t>
            </a:r>
            <a:r>
              <a:rPr b="1" lang="ro-RO" sz="2000" spc="-1" strike="noStrike" baseline="-25000">
                <a:solidFill>
                  <a:srgbClr val="000000"/>
                </a:solidFill>
                <a:latin typeface="Arial"/>
              </a:rPr>
              <a:t>re</a:t>
            </a:r>
            <a:r>
              <a:rPr b="1" lang="ro-RO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feld 2"/>
          <p:cNvSpPr/>
          <p:nvPr/>
        </p:nvSpPr>
        <p:spPr>
          <a:xfrm>
            <a:off x="957600" y="4229280"/>
            <a:ext cx="22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herry, et al, 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feld 1"/>
          <p:cNvSpPr/>
          <p:nvPr/>
        </p:nvSpPr>
        <p:spPr>
          <a:xfrm>
            <a:off x="419040" y="216000"/>
            <a:ext cx="8128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 (int i=0; i&lt;n_values; i+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incident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[i] = (i+1) * e_ste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recoil electron; -&gt; "compton electron" -&gt; "compton edg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ax_re[i] = E_gamma[i] * E_gamma[i] / (E_gamma[i] + m_electron_2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// energy of the back-scattered gamma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min_sc[i] = E_gamma[i] - Emax_re[i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ntf( " E_gamma: %f  Emax_re: %f  Emin_sc: %f  (MeV) \n", E_gamma[i], Emax_re[i], Emin_sc[i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--&gt;  outp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10000  Emax_re: 0.000377  Emin_sc: 0.009623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20000  Emax_re: 0.001452  Emin_sc: 0.0185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30000  Emax_re: 0.003152  Emin_sc: 0.026848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040000  Emax_re: 0.005415  Emin_sc: 0.034585  (Me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60000  Emax_re: 0.475806  Emin_sc: 0.184194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70000  Emax_re: 0.485035  Emin_sc: 0.184965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80000  Emax_re: 0.494281  Emin_sc: 0.185719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690000  Emax_re: 0.503543  Emin_sc: 0.186457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_gamma: 0.700000  Emax_re: 0.512820  Emin_sc: 0.187180  (MeV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unning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2"/>
          <p:cNvSpPr/>
          <p:nvPr/>
        </p:nvSpPr>
        <p:spPr>
          <a:xfrm>
            <a:off x="0" y="88920"/>
            <a:ext cx="914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lot created via: root -l compton_scatter_root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Bild 7" descr="compton_scatter.png"/>
          <p:cNvPicPr/>
          <p:nvPr/>
        </p:nvPicPr>
        <p:blipFill>
          <a:blip r:embed="rId1"/>
          <a:stretch/>
        </p:blipFill>
        <p:spPr>
          <a:xfrm>
            <a:off x="152280" y="698400"/>
            <a:ext cx="8839440" cy="6007320"/>
          </a:xfrm>
          <a:prstGeom prst="rect">
            <a:avLst/>
          </a:prstGeom>
          <a:ln w="0">
            <a:noFill/>
          </a:ln>
        </p:spPr>
      </p:pic>
      <p:sp>
        <p:nvSpPr>
          <p:cNvPr id="119" name="Gerade Verbindung 9"/>
          <p:cNvSpPr/>
          <p:nvPr/>
        </p:nvSpPr>
        <p:spPr>
          <a:xfrm>
            <a:off x="7074000" y="1320840"/>
            <a:ext cx="38160" cy="480060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Gerade Verbindung 14"/>
          <p:cNvSpPr/>
          <p:nvPr/>
        </p:nvSpPr>
        <p:spPr>
          <a:xfrm flipV="1">
            <a:off x="1015920" y="2107800"/>
            <a:ext cx="7112160" cy="12600"/>
          </a:xfrm>
          <a:prstGeom prst="line">
            <a:avLst/>
          </a:prstGeom>
          <a:ln w="28440">
            <a:solidFill>
              <a:srgbClr val="0000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Gerade Verbindung 19"/>
          <p:cNvSpPr/>
          <p:nvPr/>
        </p:nvSpPr>
        <p:spPr>
          <a:xfrm flipV="1">
            <a:off x="990720" y="4533480"/>
            <a:ext cx="7111800" cy="12600"/>
          </a:xfrm>
          <a:prstGeom prst="line">
            <a:avLst/>
          </a:prstGeom>
          <a:ln w="28440">
            <a:solidFill>
              <a:srgbClr val="ff6600"/>
            </a:solidFill>
            <a:prstDash val="sys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2"/>
          <p:cNvSpPr/>
          <p:nvPr/>
        </p:nvSpPr>
        <p:spPr>
          <a:xfrm>
            <a:off x="1676520" y="2666880"/>
            <a:ext cx="2044440" cy="873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tuation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 = 660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ke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Bild 1" descr="Fig_10_3.tiff"/>
          <p:cNvPicPr/>
          <p:nvPr/>
        </p:nvPicPr>
        <p:blipFill>
          <a:blip r:embed="rId1"/>
          <a:stretch/>
        </p:blipFill>
        <p:spPr>
          <a:xfrm>
            <a:off x="139680" y="977760"/>
            <a:ext cx="8953560" cy="54104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2"/>
          <p:cNvSpPr/>
          <p:nvPr/>
        </p:nvSpPr>
        <p:spPr>
          <a:xfrm>
            <a:off x="0" y="0"/>
            <a:ext cx="914400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ulse-height spectrum for </a:t>
            </a:r>
            <a:r>
              <a:rPr b="1" lang="de-DE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s sh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yp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2"/>
          <p:cNvSpPr/>
          <p:nvPr/>
        </p:nvSpPr>
        <p:spPr>
          <a:xfrm>
            <a:off x="7174080" y="1038240"/>
            <a:ext cx="117000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f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ener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p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4659480" y="1851120"/>
            <a:ext cx="11700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c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2"/>
          <p:cNvSpPr/>
          <p:nvPr/>
        </p:nvSpPr>
        <p:spPr>
          <a:xfrm>
            <a:off x="2743200" y="1244520"/>
            <a:ext cx="1600200" cy="133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gamm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catte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at ~180 °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surro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mate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Gerade Verbindung mit Pfeil 6"/>
          <p:cNvCxnSpPr/>
          <p:nvPr/>
        </p:nvCxnSpPr>
        <p:spPr>
          <a:xfrm flipH="1">
            <a:off x="6857280" y="1993680"/>
            <a:ext cx="762840" cy="85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9" name="Gerade Verbindung mit Pfeil 10"/>
          <p:cNvCxnSpPr/>
          <p:nvPr/>
        </p:nvCxnSpPr>
        <p:spPr>
          <a:xfrm flipH="1">
            <a:off x="5091840" y="2476440"/>
            <a:ext cx="6444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Gerade Verbindung mit Pfeil 11"/>
          <p:cNvCxnSpPr/>
          <p:nvPr/>
        </p:nvCxnSpPr>
        <p:spPr>
          <a:xfrm>
            <a:off x="3530160" y="2603520"/>
            <a:ext cx="1080" cy="280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1" name="Text Box 32"/>
          <p:cNvSpPr/>
          <p:nvPr/>
        </p:nvSpPr>
        <p:spPr>
          <a:xfrm>
            <a:off x="6392880" y="6216480"/>
            <a:ext cx="2708280" cy="22176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from: Cherry et al,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23:01:54Z</dcterms:created>
  <dc:creator>dott</dc:creator>
  <dc:description/>
  <dc:language>en-US</dc:language>
  <cp:lastModifiedBy>Uwe Pietrzyk</cp:lastModifiedBy>
  <cp:lastPrinted>2009-10-08T08:32:23Z</cp:lastPrinted>
  <dcterms:modified xsi:type="dcterms:W3CDTF">2014-10-05T13:40:26Z</dcterms:modified>
  <cp:revision>612</cp:revision>
  <dc:subject/>
  <dc:title>Folie 1</dc:title>
</cp:coreProperties>
</file>