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C85B-B9C4-4627-8B7F-341F925A9058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6DA9-2A52-47F0-B74F-A14EEDF8EEF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4FA1-EF29-4564-AFAE-262E7024CDF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5BE5-F06E-414F-BD3A-98010EC2E24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A91D-9011-4678-8D7E-05843559CF7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1D9D-8097-4876-A299-3DF8C7672E0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7EA1-1F1C-4A59-B38D-BFD5B17FF99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AC6A-3526-4A4E-BB9D-298AD0D56C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9D40-E7D2-4C11-B3D2-D9AB516B1DD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2E96-22B6-4568-933B-F50EDB2394C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39F0-9DEC-4FF3-B7FC-0C4AA32F83B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4E07-AE12-4611-BCB4-A807C74D32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7CAB-BB52-4BB9-AD4C-700DACE83BB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693A-C66A-4A76-ABA1-B689E93200A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B64F-29B2-466B-BF40-5AE659CF002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02CC-8190-406A-B1FA-C656D7F4C7B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FA2E-9717-4625-B5F1-DC1FD144D5A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D222-35DF-4D5D-BCC8-956C6E5CEF4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440" y="0"/>
            <a:ext cx="12564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solidFill>
            <a:srgbClr val="515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15920" y="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480" y="2286000"/>
            <a:ext cx="12528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4480" y="4572000"/>
            <a:ext cx="125280" cy="22860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57200" y="6477120"/>
            <a:ext cx="83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2"/>
          <p:cNvSpPr/>
          <p:nvPr/>
        </p:nvSpPr>
        <p:spPr>
          <a:xfrm>
            <a:off x="457200" y="6477120"/>
            <a:ext cx="83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EduGATE  - 2014 -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 U Pietrzyk / M Gaens - </a:t>
            </a: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INM – FZ-Juelich / University of Wuppertal - Germany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Slide </a:t>
            </a:r>
            <a:fld id="{1564C857-5011-4740-9D7C-6E676DBB3664}" type="slidenum">
              <a:rPr b="0" lang="de-DE" sz="1000" spc="-1" strike="noStrike">
                <a:solidFill>
                  <a:srgbClr val="005b8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Logo_FZ_Jülich_NEU_rgb"/>
          <p:cNvPicPr/>
          <p:nvPr/>
        </p:nvPicPr>
        <p:blipFill>
          <a:blip r:embed="rId2"/>
          <a:stretch/>
        </p:blipFill>
        <p:spPr>
          <a:xfrm>
            <a:off x="7029360" y="136440"/>
            <a:ext cx="1447920" cy="47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-1440" y="2286000"/>
            <a:ext cx="9144000" cy="4572000"/>
          </a:xfrm>
          <a:prstGeom prst="rect">
            <a:avLst/>
          </a:prstGeom>
          <a:solidFill>
            <a:srgbClr val="005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228600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solidFill>
            <a:srgbClr val="515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15920" y="0"/>
            <a:ext cx="1252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14480" y="2286000"/>
            <a:ext cx="12528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14480" y="4572000"/>
            <a:ext cx="125280" cy="22860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 rot="16200000">
            <a:off x="-1078920" y="931320"/>
            <a:ext cx="2478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5b82"/>
                </a:solidFill>
                <a:latin typeface="Arial MT Bd"/>
                <a:ea typeface="Arial"/>
              </a:rPr>
              <a:t>Mitglied der Helmholtz-Gemeinsch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Logo_FZ_Jülich_NEU_rgb"/>
          <p:cNvPicPr/>
          <p:nvPr/>
        </p:nvPicPr>
        <p:blipFill>
          <a:blip r:embed="rId2"/>
          <a:stretch/>
        </p:blipFill>
        <p:spPr>
          <a:xfrm>
            <a:off x="6234120" y="254160"/>
            <a:ext cx="2320920" cy="8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_FZ_Jülich_NEU_rgb"/>
          <p:cNvPicPr/>
          <p:nvPr/>
        </p:nvPicPr>
        <p:blipFill>
          <a:blip r:embed="rId3"/>
          <a:stretch/>
        </p:blipFill>
        <p:spPr>
          <a:xfrm>
            <a:off x="6172200" y="254160"/>
            <a:ext cx="2514600" cy="814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u.pietrzyk@fz-juelich.de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192040"/>
            <a:ext cx="893772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pectrometry_Gamma</a:t>
            </a: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New Module For The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duGATE Project</a:t>
            </a:r>
            <a:endParaRPr b="1" lang="en-US" sz="32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8520" y="3993840"/>
            <a:ext cx="8569440" cy="26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we Pietrzyk &amp; Michaela Gaens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itute of Neurosciences and Medicine (INM), Research Center Jueli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artment of Mathematics and Natural Sciences, University of Wuppertal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act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.pietrzyk@fz-juelich.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r uwe.pietrzyk@uni-wupperta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Basic Paper </a:t>
            </a:r>
            <a:r>
              <a:rPr b="0" lang="de-DE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„Zeitschrift für Medizinische Physik“ / Z. Med. Phys. 23 (2013) 65-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Bild 1" descr="G4OpenGL_1.png"/>
          <p:cNvPicPr/>
          <p:nvPr/>
        </p:nvPicPr>
        <p:blipFill>
          <a:blip r:embed="rId1"/>
          <a:stretch/>
        </p:blipFill>
        <p:spPr>
          <a:xfrm>
            <a:off x="127080" y="812880"/>
            <a:ext cx="4470480" cy="4470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2"/>
          <p:cNvSpPr/>
          <p:nvPr/>
        </p:nvSpPr>
        <p:spPr>
          <a:xfrm>
            <a:off x="620640" y="174600"/>
            <a:ext cx="824400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pectrometry_Gamma_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Ext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977760" y="450540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2d631"/>
                </a:solidFill>
                <a:latin typeface="Arial"/>
              </a:rPr>
              <a:t>front phan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2246400" y="1127160"/>
            <a:ext cx="115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ff"/>
                </a:solidFill>
                <a:latin typeface="Arial"/>
              </a:rPr>
              <a:t>crys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Bild 2" descr="G4OpenGL_2.png"/>
          <p:cNvPicPr/>
          <p:nvPr/>
        </p:nvPicPr>
        <p:blipFill>
          <a:blip r:embed="rId2"/>
          <a:stretch/>
        </p:blipFill>
        <p:spPr>
          <a:xfrm>
            <a:off x="4584600" y="762120"/>
            <a:ext cx="4508640" cy="4508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2"/>
          <p:cNvSpPr/>
          <p:nvPr/>
        </p:nvSpPr>
        <p:spPr>
          <a:xfrm>
            <a:off x="2793960" y="453060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back phan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Gerade Verbindung mit Pfeil 5"/>
          <p:cNvCxnSpPr/>
          <p:nvPr/>
        </p:nvCxnSpPr>
        <p:spPr>
          <a:xfrm flipV="1">
            <a:off x="2793600" y="1573920"/>
            <a:ext cx="13320" cy="597960"/>
          </a:xfrm>
          <a:prstGeom prst="straightConnector1">
            <a:avLst/>
          </a:prstGeom>
          <a:ln w="19080">
            <a:solidFill>
              <a:srgbClr val="b3b3b3"/>
            </a:solidFill>
            <a:miter/>
            <a:headEnd len="med" type="arrow" w="med"/>
          </a:ln>
        </p:spPr>
      </p:cxnSp>
      <p:cxnSp>
        <p:nvCxnSpPr>
          <p:cNvPr id="139" name="Gerade Verbindung mit Pfeil 13"/>
          <p:cNvCxnSpPr>
            <a:endCxn id="137" idx="0"/>
          </p:cNvCxnSpPr>
          <p:nvPr/>
        </p:nvCxnSpPr>
        <p:spPr>
          <a:xfrm>
            <a:off x="3212640" y="3835080"/>
            <a:ext cx="451800" cy="695520"/>
          </a:xfrm>
          <a:prstGeom prst="straightConnector1">
            <a:avLst/>
          </a:prstGeom>
          <a:ln w="19080">
            <a:solidFill>
              <a:srgbClr val="b3b3b3"/>
            </a:solidFill>
            <a:miter/>
            <a:headEnd len="med" type="arrow" w="med"/>
          </a:ln>
        </p:spPr>
      </p:cxnSp>
      <p:cxnSp>
        <p:nvCxnSpPr>
          <p:cNvPr id="140" name="Gerade Verbindung mit Pfeil 15"/>
          <p:cNvCxnSpPr/>
          <p:nvPr/>
        </p:nvCxnSpPr>
        <p:spPr>
          <a:xfrm flipH="1">
            <a:off x="2044440" y="3796920"/>
            <a:ext cx="343440" cy="762840"/>
          </a:xfrm>
          <a:prstGeom prst="straightConnector1">
            <a:avLst/>
          </a:prstGeom>
          <a:ln w="19080">
            <a:solidFill>
              <a:srgbClr val="b3b3b3"/>
            </a:solidFill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2"/>
          <p:cNvSpPr/>
          <p:nvPr/>
        </p:nvSpPr>
        <p:spPr>
          <a:xfrm>
            <a:off x="542880" y="237960"/>
            <a:ext cx="30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Extended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1481040" y="5681520"/>
            <a:ext cx="6618240" cy="85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amma Camer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2 crystals, no collimat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im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amma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833400" y="505152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a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2978280" y="5064120"/>
            <a:ext cx="12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a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4470480" y="1092240"/>
            <a:ext cx="4673520" cy="4457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mma Came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ant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</a:t>
            </a:r>
            <a:r>
              <a:rPr b="1" lang="en-US" sz="2400" spc="-1" strike="noStrike">
                <a:solidFill>
                  <a:srgbClr val="52d631"/>
                </a:solidFill>
                <a:latin typeface="Arial"/>
                <a:ea typeface="ＭＳ Ｐゴシック"/>
              </a:rPr>
              <a:t>fro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enforce scatter an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simulate effects of collimator material lik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acteristic X-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ant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ac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 enforce back-sc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5"/>
          <p:cNvSpPr/>
          <p:nvPr/>
        </p:nvSpPr>
        <p:spPr>
          <a:xfrm>
            <a:off x="1376280" y="5872320"/>
            <a:ext cx="6675480" cy="8586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mma Camer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crys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no collimat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31ff"/>
                </a:solidFill>
                <a:latin typeface="Arial"/>
                <a:ea typeface="Arial"/>
              </a:rPr>
              <a:t>collimated</a:t>
            </a:r>
            <a:r>
              <a:rPr b="1" lang="en-US" sz="1800" spc="-1" strike="noStrike">
                <a:solidFill>
                  <a:srgbClr val="d931ff"/>
                </a:solidFill>
                <a:latin typeface="Arial"/>
                <a:ea typeface="Arial"/>
              </a:rPr>
              <a:t> gamma sour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rays directed towards crys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phantoms (</a:t>
            </a:r>
            <a:r>
              <a:rPr b="1" lang="en-US" sz="1800" spc="-1" strike="noStrike">
                <a:solidFill>
                  <a:srgbClr val="52d631"/>
                </a:solidFill>
                <a:latin typeface="Arial"/>
                <a:ea typeface="Arial"/>
              </a:rPr>
              <a:t>fro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amp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Bild 9" descr="G4OpenGL_1.png"/>
          <p:cNvPicPr/>
          <p:nvPr/>
        </p:nvPicPr>
        <p:blipFill>
          <a:blip r:embed="rId1"/>
          <a:stretch/>
        </p:blipFill>
        <p:spPr>
          <a:xfrm>
            <a:off x="165240" y="1092240"/>
            <a:ext cx="4470120" cy="44704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2"/>
          <p:cNvSpPr/>
          <p:nvPr/>
        </p:nvSpPr>
        <p:spPr>
          <a:xfrm>
            <a:off x="1015920" y="478476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2d631"/>
                </a:solidFill>
                <a:latin typeface="Arial"/>
              </a:rPr>
              <a:t>front phan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"/>
          <p:cNvSpPr/>
          <p:nvPr/>
        </p:nvSpPr>
        <p:spPr>
          <a:xfrm>
            <a:off x="101520" y="303228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gamma ray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2832120" y="478476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back phan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Gerade Verbindung mit Pfeil 13"/>
          <p:cNvCxnSpPr/>
          <p:nvPr/>
        </p:nvCxnSpPr>
        <p:spPr>
          <a:xfrm flipV="1">
            <a:off x="2831760" y="1854000"/>
            <a:ext cx="13320" cy="597600"/>
          </a:xfrm>
          <a:prstGeom prst="straightConnector1">
            <a:avLst/>
          </a:prstGeom>
          <a:ln w="19080">
            <a:solidFill>
              <a:srgbClr val="b3b3b3"/>
            </a:solidFill>
            <a:miter/>
            <a:headEnd len="med" type="arrow" w="med"/>
          </a:ln>
        </p:spPr>
      </p:cxnSp>
      <p:cxnSp>
        <p:nvCxnSpPr>
          <p:cNvPr id="152" name="Gerade Verbindung mit Pfeil 14"/>
          <p:cNvCxnSpPr>
            <a:endCxn id="150" idx="0"/>
          </p:cNvCxnSpPr>
          <p:nvPr/>
        </p:nvCxnSpPr>
        <p:spPr>
          <a:xfrm>
            <a:off x="3251160" y="4089240"/>
            <a:ext cx="451440" cy="696240"/>
          </a:xfrm>
          <a:prstGeom prst="straightConnector1">
            <a:avLst/>
          </a:prstGeom>
          <a:ln w="19080">
            <a:solidFill>
              <a:srgbClr val="b3b3b3"/>
            </a:solidFill>
            <a:miter/>
            <a:headEnd len="med" type="arrow" w="med"/>
          </a:ln>
        </p:spPr>
      </p:cxnSp>
      <p:cxnSp>
        <p:nvCxnSpPr>
          <p:cNvPr id="153" name="Gerade Verbindung mit Pfeil 15"/>
          <p:cNvCxnSpPr/>
          <p:nvPr/>
        </p:nvCxnSpPr>
        <p:spPr>
          <a:xfrm flipH="1">
            <a:off x="2082600" y="4076280"/>
            <a:ext cx="343440" cy="762840"/>
          </a:xfrm>
          <a:prstGeom prst="straightConnector1">
            <a:avLst/>
          </a:prstGeom>
          <a:ln w="19080">
            <a:solidFill>
              <a:srgbClr val="b3b3b3"/>
            </a:solidFill>
            <a:miter/>
            <a:headEnd len="med" type="arrow" w="med"/>
          </a:ln>
        </p:spPr>
      </p:cxnSp>
      <p:cxnSp>
        <p:nvCxnSpPr>
          <p:cNvPr id="154" name="Gerade Verbindung mit Pfeil 16"/>
          <p:cNvCxnSpPr/>
          <p:nvPr/>
        </p:nvCxnSpPr>
        <p:spPr>
          <a:xfrm flipH="1">
            <a:off x="1853640" y="3200040"/>
            <a:ext cx="610200" cy="1080"/>
          </a:xfrm>
          <a:prstGeom prst="straightConnector1">
            <a:avLst/>
          </a:prstGeom>
          <a:ln w="19080">
            <a:solidFill>
              <a:srgbClr val="b3b3b3"/>
            </a:solidFill>
            <a:prstDash val="dash"/>
            <a:miter/>
            <a:headEnd len="med" type="arrow" w="med"/>
          </a:ln>
        </p:spPr>
      </p:cxnSp>
      <p:sp>
        <p:nvSpPr>
          <p:cNvPr id="155" name="Text Box 32"/>
          <p:cNvSpPr/>
          <p:nvPr/>
        </p:nvSpPr>
        <p:spPr>
          <a:xfrm>
            <a:off x="2146320" y="139392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ff"/>
                </a:solidFill>
                <a:latin typeface="Arial"/>
              </a:rPr>
              <a:t>crys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Bild 7" descr="compton_scatter.png"/>
          <p:cNvPicPr/>
          <p:nvPr/>
        </p:nvPicPr>
        <p:blipFill>
          <a:blip r:embed="rId1"/>
          <a:stretch/>
        </p:blipFill>
        <p:spPr>
          <a:xfrm>
            <a:off x="152280" y="76320"/>
            <a:ext cx="8839440" cy="6006960"/>
          </a:xfrm>
          <a:prstGeom prst="rect">
            <a:avLst/>
          </a:prstGeom>
          <a:ln w="0">
            <a:noFill/>
          </a:ln>
        </p:spPr>
      </p:pic>
      <p:sp>
        <p:nvSpPr>
          <p:cNvPr id="157" name="Gerade Verbindung 9"/>
          <p:cNvSpPr/>
          <p:nvPr/>
        </p:nvSpPr>
        <p:spPr>
          <a:xfrm>
            <a:off x="5702400" y="685800"/>
            <a:ext cx="38160" cy="48006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erade Verbindung 14"/>
          <p:cNvSpPr/>
          <p:nvPr/>
        </p:nvSpPr>
        <p:spPr>
          <a:xfrm flipV="1">
            <a:off x="1015920" y="2552400"/>
            <a:ext cx="7112160" cy="1260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Gerade Verbindung 19"/>
          <p:cNvSpPr/>
          <p:nvPr/>
        </p:nvSpPr>
        <p:spPr>
          <a:xfrm flipV="1">
            <a:off x="990720" y="4025520"/>
            <a:ext cx="7111800" cy="12600"/>
          </a:xfrm>
          <a:prstGeom prst="line">
            <a:avLst/>
          </a:prstGeom>
          <a:ln w="28440">
            <a:solidFill>
              <a:srgbClr val="ff6600"/>
            </a:solidFill>
            <a:prstDash val="sys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2"/>
          <p:cNvSpPr/>
          <p:nvPr/>
        </p:nvSpPr>
        <p:spPr>
          <a:xfrm>
            <a:off x="4851360" y="800280"/>
            <a:ext cx="1676520" cy="460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ituation 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 = 511KeV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1"/>
          <p:cNvSpPr/>
          <p:nvPr/>
        </p:nvSpPr>
        <p:spPr>
          <a:xfrm>
            <a:off x="643680" y="6310440"/>
            <a:ext cx="812916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E_gamma: </a:t>
            </a:r>
            <a:r>
              <a:rPr b="1" lang="sv-SE" sz="2000" spc="-1" strike="noStrike">
                <a:solidFill>
                  <a:srgbClr val="008000"/>
                </a:solidFill>
                <a:latin typeface="Arial"/>
              </a:rPr>
              <a:t>0.510000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Emax_re: </a:t>
            </a: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0.339778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Emin_sc: </a:t>
            </a:r>
            <a:r>
              <a:rPr b="1" lang="sv-SE" sz="2000" spc="-1" strike="noStrike">
                <a:solidFill>
                  <a:srgbClr val="ff0000"/>
                </a:solidFill>
                <a:latin typeface="Arial"/>
              </a:rPr>
              <a:t>0.170222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2"/>
          <p:cNvSpPr/>
          <p:nvPr/>
        </p:nvSpPr>
        <p:spPr>
          <a:xfrm>
            <a:off x="542880" y="237960"/>
            <a:ext cx="667080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Starti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xtended Setup (Gate_v7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6019920" y="5076720"/>
            <a:ext cx="3124080" cy="1789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cif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6278400" y="880920"/>
            <a:ext cx="2865600" cy="6811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a shell-window ty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fig_starter_mac_70.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Bild 1" descr="config_window.tiff"/>
          <p:cNvPicPr/>
          <p:nvPr/>
        </p:nvPicPr>
        <p:blipFill>
          <a:blip r:embed="rId1"/>
          <a:stretch/>
        </p:blipFill>
        <p:spPr>
          <a:xfrm>
            <a:off x="136440" y="762120"/>
            <a:ext cx="6061320" cy="6095880"/>
          </a:xfrm>
          <a:prstGeom prst="rect">
            <a:avLst/>
          </a:prstGeom>
          <a:ln w="0">
            <a:noFill/>
          </a:ln>
        </p:spPr>
      </p:pic>
      <p:cxnSp>
        <p:nvCxnSpPr>
          <p:cNvPr id="166" name="Gerade Verbindung mit Pfeil 11"/>
          <p:cNvCxnSpPr/>
          <p:nvPr/>
        </p:nvCxnSpPr>
        <p:spPr>
          <a:xfrm flipH="1">
            <a:off x="5587200" y="6222600"/>
            <a:ext cx="839160" cy="1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67" name="Gerade Verbindung mit Pfeil 11"/>
          <p:cNvCxnSpPr/>
          <p:nvPr/>
        </p:nvCxnSpPr>
        <p:spPr>
          <a:xfrm flipH="1">
            <a:off x="5637960" y="5803560"/>
            <a:ext cx="839160" cy="1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2"/>
          <p:cNvSpPr/>
          <p:nvPr/>
        </p:nvSpPr>
        <p:spPr>
          <a:xfrm>
            <a:off x="542880" y="237960"/>
            <a:ext cx="641664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Starti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xtended Setup (Gate_v7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576360" y="868320"/>
            <a:ext cx="6281640" cy="6811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n change selection presets in </a:t>
            </a:r>
            <a:r>
              <a:rPr b="0" lang="de-DE" sz="1800" spc="-1" strike="noStrike">
                <a:solidFill>
                  <a:srgbClr val="008000"/>
                </a:solidFill>
                <a:latin typeface="Arial"/>
              </a:rPr>
              <a:t>Spectrometry_Gamma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feld 2"/>
          <p:cNvSpPr/>
          <p:nvPr/>
        </p:nvSpPr>
        <p:spPr>
          <a:xfrm>
            <a:off x="190440" y="2133720"/>
            <a:ext cx="8915400" cy="388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PointThetaPhi: 0 90; 90 0; -90 0; 89 90; 15 30; 30 30; 45 45; 60 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uOnOff: novisu; vis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Activity: 100 Bq; 1000. Bq; 10000. Bq; 100000. Bq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nThicknessFront: 2. mm; 0.1 mm; 0.2 mm; 0.5 mm; 1. mm; 5. mm; 10. mm; 20. mm; 30. m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ntomMaterialFront: Vacuum; Water; Plexiglass; Air; Lead; Copper; Tungsten; Iodi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nThicknessBack: 5. mm; 0.1 mm; 0.2 mm; 0.5 mm; 1. mm; 2. mm; 10. mm; 20. mm; 30. m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ntomMaterialBack: Lead; Vacuum; Water; Plexiglass; Air; Copper; Tungsten; Iodi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ystalMaterial: NaI; BGO; LSO; GSO; PWO; LuAP; YAP; CZT; Silicon; Lead; Tungst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VolMaterial: Vacuum; Water; Plexiglass; Air; PV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Type: gamma_collim; gamm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Energy: 80; 10; 50; 60; 90; 100; 120; 140; 160; 200; 240; 364; 511; 662; 1000; 16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_res: 0.10; 0.00; 0.01; 0.05; 0.15; 0.20; 0.2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Gerade Verbindung mit Pfeil 11"/>
          <p:cNvCxnSpPr/>
          <p:nvPr/>
        </p:nvCxnSpPr>
        <p:spPr>
          <a:xfrm flipH="1">
            <a:off x="4782600" y="1460160"/>
            <a:ext cx="424800" cy="648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Bild 1" descr="result_window.tiff"/>
          <p:cNvPicPr/>
          <p:nvPr/>
        </p:nvPicPr>
        <p:blipFill>
          <a:blip r:embed="rId1"/>
          <a:stretch/>
        </p:blipFill>
        <p:spPr>
          <a:xfrm>
            <a:off x="63360" y="0"/>
            <a:ext cx="90043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2"/>
          <p:cNvSpPr/>
          <p:nvPr/>
        </p:nvSpPr>
        <p:spPr>
          <a:xfrm>
            <a:off x="216000" y="3276720"/>
            <a:ext cx="2895480" cy="258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ote: different scal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2"/>
          <p:cNvSpPr/>
          <p:nvPr/>
        </p:nvSpPr>
        <p:spPr>
          <a:xfrm>
            <a:off x="7808760" y="106200"/>
            <a:ext cx="1170000" cy="1058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f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energ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(662 k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Gerade Verbindung mit Pfeil 6"/>
          <p:cNvCxnSpPr/>
          <p:nvPr/>
        </p:nvCxnSpPr>
        <p:spPr>
          <a:xfrm flipH="1">
            <a:off x="7832160" y="1212480"/>
            <a:ext cx="462600" cy="469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6" name="Text Box 32"/>
          <p:cNvSpPr/>
          <p:nvPr/>
        </p:nvSpPr>
        <p:spPr>
          <a:xfrm>
            <a:off x="5499000" y="301680"/>
            <a:ext cx="1879560" cy="460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il electron </a:t>
            </a:r>
            <a:r>
              <a:rPr b="1" lang="en-GB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pton 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Gerade Verbindung mit Pfeil 10"/>
          <p:cNvCxnSpPr/>
          <p:nvPr/>
        </p:nvCxnSpPr>
        <p:spPr>
          <a:xfrm>
            <a:off x="6743520" y="838080"/>
            <a:ext cx="1080" cy="280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8" name="Text Box 32"/>
          <p:cNvSpPr/>
          <p:nvPr/>
        </p:nvSpPr>
        <p:spPr>
          <a:xfrm>
            <a:off x="4067280" y="3301920"/>
            <a:ext cx="2197080" cy="258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ack-scatter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Gerade Verbindung mit Pfeil 11"/>
          <p:cNvCxnSpPr/>
          <p:nvPr/>
        </p:nvCxnSpPr>
        <p:spPr>
          <a:xfrm flipV="1">
            <a:off x="5578200" y="2701440"/>
            <a:ext cx="175320" cy="594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Bild 1" descr="Fig_10_5.tiff"/>
          <p:cNvPicPr/>
          <p:nvPr/>
        </p:nvPicPr>
        <p:blipFill>
          <a:blip r:embed="rId1"/>
          <a:stretch/>
        </p:blipFill>
        <p:spPr>
          <a:xfrm>
            <a:off x="776160" y="120600"/>
            <a:ext cx="7823160" cy="53341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2"/>
          <p:cNvSpPr/>
          <p:nvPr/>
        </p:nvSpPr>
        <p:spPr>
          <a:xfrm>
            <a:off x="7710480" y="820800"/>
            <a:ext cx="1320840" cy="5886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full energy pea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(1600 ke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Gerade Verbindung mit Pfeil 6"/>
          <p:cNvCxnSpPr/>
          <p:nvPr/>
        </p:nvCxnSpPr>
        <p:spPr>
          <a:xfrm flipH="1">
            <a:off x="7543080" y="1487160"/>
            <a:ext cx="654840" cy="911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3" name="Gerade Verbindung mit Pfeil 10"/>
          <p:cNvCxnSpPr/>
          <p:nvPr/>
        </p:nvCxnSpPr>
        <p:spPr>
          <a:xfrm>
            <a:off x="5517720" y="576360"/>
            <a:ext cx="13320" cy="4500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184" name="Gerade Verbindung mit Pfeil 11"/>
          <p:cNvCxnSpPr/>
          <p:nvPr/>
        </p:nvCxnSpPr>
        <p:spPr>
          <a:xfrm flipH="1">
            <a:off x="3777480" y="835200"/>
            <a:ext cx="13320" cy="4989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85" name="Text Box 32"/>
          <p:cNvSpPr/>
          <p:nvPr/>
        </p:nvSpPr>
        <p:spPr>
          <a:xfrm>
            <a:off x="4579920" y="128520"/>
            <a:ext cx="1924200" cy="460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Si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escape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2"/>
          <p:cNvSpPr/>
          <p:nvPr/>
        </p:nvSpPr>
        <p:spPr>
          <a:xfrm>
            <a:off x="2890800" y="554040"/>
            <a:ext cx="1593720" cy="460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escape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2"/>
          <p:cNvSpPr/>
          <p:nvPr/>
        </p:nvSpPr>
        <p:spPr>
          <a:xfrm>
            <a:off x="384120" y="5487840"/>
            <a:ext cx="8352000" cy="1180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high energy of the incident photon (1600 keV) allows the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en-GB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-e</a:t>
            </a:r>
            <a:r>
              <a:rPr b="1" lang="en-GB" sz="18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pairs. Subsequently, the positron annihilates with an electro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e two annihilation photons of 511 keV each. If one or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nihilation photons escape, this gives rise for th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scape peak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344520" y="190440"/>
            <a:ext cx="3144960" cy="221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ig 10.5 from Cherry et al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Bild 1" descr="result_window2.png"/>
          <p:cNvPicPr/>
          <p:nvPr/>
        </p:nvPicPr>
        <p:blipFill>
          <a:blip r:embed="rId1"/>
          <a:stretch/>
        </p:blipFill>
        <p:spPr>
          <a:xfrm>
            <a:off x="12600" y="7452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2"/>
          <p:cNvSpPr/>
          <p:nvPr/>
        </p:nvSpPr>
        <p:spPr>
          <a:xfrm>
            <a:off x="3772080" y="1500120"/>
            <a:ext cx="1881000" cy="7304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full energy pe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1600 k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Gerade Verbindung mit Pfeil 6"/>
          <p:cNvCxnSpPr/>
          <p:nvPr/>
        </p:nvCxnSpPr>
        <p:spPr>
          <a:xfrm>
            <a:off x="5785920" y="2052720"/>
            <a:ext cx="872280" cy="93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2" name="Gerade Verbindung mit Pfeil 10"/>
          <p:cNvCxnSpPr/>
          <p:nvPr/>
        </p:nvCxnSpPr>
        <p:spPr>
          <a:xfrm>
            <a:off x="5017680" y="4257720"/>
            <a:ext cx="13320" cy="4500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193" name="Gerade Verbindung mit Pfeil 11"/>
          <p:cNvCxnSpPr/>
          <p:nvPr/>
        </p:nvCxnSpPr>
        <p:spPr>
          <a:xfrm flipH="1">
            <a:off x="3148920" y="4222440"/>
            <a:ext cx="13320" cy="4993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94" name="Text Box 32"/>
          <p:cNvSpPr/>
          <p:nvPr/>
        </p:nvSpPr>
        <p:spPr>
          <a:xfrm>
            <a:off x="4237200" y="3871800"/>
            <a:ext cx="1527120" cy="5126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cape 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2"/>
          <p:cNvSpPr/>
          <p:nvPr/>
        </p:nvSpPr>
        <p:spPr>
          <a:xfrm>
            <a:off x="2378160" y="3914640"/>
            <a:ext cx="1593720" cy="5126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cape 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2"/>
          <p:cNvSpPr/>
          <p:nvPr/>
        </p:nvSpPr>
        <p:spPr>
          <a:xfrm>
            <a:off x="326880" y="1415880"/>
            <a:ext cx="8616960" cy="37508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ng is the way of theor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rt and effective by examp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Lucius Annae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ne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he Young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pistulae mo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5"/>
          <p:cNvSpPr/>
          <p:nvPr/>
        </p:nvSpPr>
        <p:spPr>
          <a:xfrm>
            <a:off x="190440" y="685800"/>
            <a:ext cx="8953560" cy="56894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pectrometry_Gam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es to the basics of gamma spectra obtained from a scintillation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pired b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hapter 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ysics in Nuclear Medicin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herry, Sorensen &amp; Phelps, 20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s GATE-mac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es in two versions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as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amp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t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me Code in C and for ROOT to calculate and plot relevant parameters du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ton Sc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Bild 1" descr="Fig_10_3.tiff"/>
          <p:cNvPicPr/>
          <p:nvPr/>
        </p:nvPicPr>
        <p:blipFill>
          <a:blip r:embed="rId1"/>
          <a:stretch/>
        </p:blipFill>
        <p:spPr>
          <a:xfrm>
            <a:off x="139680" y="977760"/>
            <a:ext cx="8953560" cy="5410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2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ulse-height spectrum for </a:t>
            </a:r>
            <a:r>
              <a:rPr b="1" lang="de-DE" sz="18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s show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ypical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2"/>
          <p:cNvSpPr/>
          <p:nvPr/>
        </p:nvSpPr>
        <p:spPr>
          <a:xfrm>
            <a:off x="6165720" y="6243480"/>
            <a:ext cx="2357640" cy="221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rom: Cherry et al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2"/>
          <p:cNvSpPr/>
          <p:nvPr/>
        </p:nvSpPr>
        <p:spPr>
          <a:xfrm>
            <a:off x="368280" y="5092560"/>
            <a:ext cx="4406760" cy="181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asic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ompton_Sc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Bild 1" descr="Compton_Scatter_Fig_6_12.tiff"/>
          <p:cNvPicPr/>
          <p:nvPr/>
        </p:nvPicPr>
        <p:blipFill>
          <a:blip r:embed="rId1"/>
          <a:srcRect l="0" t="0" r="0" b="18870"/>
          <a:stretch/>
        </p:blipFill>
        <p:spPr>
          <a:xfrm>
            <a:off x="114480" y="50760"/>
            <a:ext cx="5494320" cy="4203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2"/>
          <p:cNvSpPr/>
          <p:nvPr/>
        </p:nvSpPr>
        <p:spPr>
          <a:xfrm>
            <a:off x="4737240" y="3581280"/>
            <a:ext cx="4190760" cy="34624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s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=  E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/[1 + ( E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/0.511) (1 − cos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− 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or 180-degree scatter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s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m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/[1 + (2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/0.511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s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2"/>
          <p:cNvSpPr/>
          <p:nvPr/>
        </p:nvSpPr>
        <p:spPr>
          <a:xfrm>
            <a:off x="5092560" y="177840"/>
            <a:ext cx="711360" cy="8931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1" lang="ro-RO" sz="2000" spc="-1" strike="noStrike" baseline="-25000">
                <a:solidFill>
                  <a:srgbClr val="000000"/>
                </a:solidFill>
                <a:latin typeface="Arial"/>
              </a:rPr>
              <a:t>sc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241200" y="330120"/>
            <a:ext cx="711360" cy="8931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1" lang="ro-RO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5600880" y="2451240"/>
            <a:ext cx="876240" cy="9543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1" lang="ro-RO" sz="20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feld 2"/>
          <p:cNvSpPr/>
          <p:nvPr/>
        </p:nvSpPr>
        <p:spPr>
          <a:xfrm>
            <a:off x="957600" y="422928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herry, et al, 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feld 1"/>
          <p:cNvSpPr/>
          <p:nvPr/>
        </p:nvSpPr>
        <p:spPr>
          <a:xfrm>
            <a:off x="419040" y="216000"/>
            <a:ext cx="812808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 (int i=0; i&lt;n_values; i+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// energy of the incident gamm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[i] = (i+1) * e_ste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// energy of the recoil electron; -&gt; "compton electron" -&gt; "compton edg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ax_re[i] = E_gamma[i] * E_gamma[i] / (E_gamma[i] + m_electron_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// energy of the back-scattered gamm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in_sc[i] = E_gamma[i] - Emax_re[i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ntf( " E_gamma: %f  Emax_re: %f  Emin_sc: %f  (MeV) \n", E_gamma[i], Emax_re[i], Emin_sc[i]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-&gt; 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010000  Emax_re: 0.000377  Emin_sc: 0.009623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020000  Emax_re: 0.001452  Emin_sc: 0.018548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030000  Emax_re: 0.003152  Emin_sc: 0.026848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040000  Emax_re: 0.005415  Emin_sc: 0.034585  (Me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660000  Emax_re: 0.475806  Emin_sc: 0.184194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670000  Emax_re: 0.485035  Emin_sc: 0.184965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680000  Emax_re: 0.494281  Emin_sc: 0.185719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690000  Emax_re: 0.503543  Emin_sc: 0.186457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700000  Emax_re: 0.512820  Emin_sc: 0.187180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0" y="889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unning: root -l compton_scatter_root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Bild 7" descr="compton_scatter.png"/>
          <p:cNvPicPr/>
          <p:nvPr/>
        </p:nvPicPr>
        <p:blipFill>
          <a:blip r:embed="rId1"/>
          <a:stretch/>
        </p:blipFill>
        <p:spPr>
          <a:xfrm>
            <a:off x="152280" y="698400"/>
            <a:ext cx="8839440" cy="6007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2"/>
          <p:cNvSpPr/>
          <p:nvPr/>
        </p:nvSpPr>
        <p:spPr>
          <a:xfrm>
            <a:off x="0" y="889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lot created via: root -l compton_scatter_root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Bild 7" descr="compton_scatter.png"/>
          <p:cNvPicPr/>
          <p:nvPr/>
        </p:nvPicPr>
        <p:blipFill>
          <a:blip r:embed="rId1"/>
          <a:stretch/>
        </p:blipFill>
        <p:spPr>
          <a:xfrm>
            <a:off x="152280" y="698400"/>
            <a:ext cx="8839440" cy="6007320"/>
          </a:xfrm>
          <a:prstGeom prst="rect">
            <a:avLst/>
          </a:prstGeom>
          <a:ln w="0">
            <a:noFill/>
          </a:ln>
        </p:spPr>
      </p:pic>
      <p:sp>
        <p:nvSpPr>
          <p:cNvPr id="119" name="Gerade Verbindung 9"/>
          <p:cNvSpPr/>
          <p:nvPr/>
        </p:nvSpPr>
        <p:spPr>
          <a:xfrm>
            <a:off x="7074000" y="1320840"/>
            <a:ext cx="38160" cy="48006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Gerade Verbindung 14"/>
          <p:cNvSpPr/>
          <p:nvPr/>
        </p:nvSpPr>
        <p:spPr>
          <a:xfrm flipV="1">
            <a:off x="1015920" y="2107800"/>
            <a:ext cx="7112160" cy="1260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Gerade Verbindung 19"/>
          <p:cNvSpPr/>
          <p:nvPr/>
        </p:nvSpPr>
        <p:spPr>
          <a:xfrm flipV="1">
            <a:off x="990720" y="4533480"/>
            <a:ext cx="7111800" cy="12600"/>
          </a:xfrm>
          <a:prstGeom prst="line">
            <a:avLst/>
          </a:prstGeom>
          <a:ln w="28440">
            <a:solidFill>
              <a:srgbClr val="ff6600"/>
            </a:solidFill>
            <a:prstDash val="sys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1676520" y="2666880"/>
            <a:ext cx="2044440" cy="87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tuation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 = 660K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ke for </a:t>
            </a:r>
            <a:r>
              <a:rPr b="1" lang="de-DE" sz="18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Bild 1" descr="Fig_10_3.tiff"/>
          <p:cNvPicPr/>
          <p:nvPr/>
        </p:nvPicPr>
        <p:blipFill>
          <a:blip r:embed="rId1"/>
          <a:stretch/>
        </p:blipFill>
        <p:spPr>
          <a:xfrm>
            <a:off x="139680" y="977760"/>
            <a:ext cx="8953560" cy="54104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2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ulse-height spectrum for </a:t>
            </a:r>
            <a:r>
              <a:rPr b="1" lang="de-DE" sz="18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s show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ypical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7174080" y="1038240"/>
            <a:ext cx="117000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4659480" y="1851120"/>
            <a:ext cx="117000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2"/>
          <p:cNvSpPr/>
          <p:nvPr/>
        </p:nvSpPr>
        <p:spPr>
          <a:xfrm>
            <a:off x="2743200" y="1244520"/>
            <a:ext cx="1600200" cy="133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gamm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catt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t ~180 °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urro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Gerade Verbindung mit Pfeil 6"/>
          <p:cNvCxnSpPr/>
          <p:nvPr/>
        </p:nvCxnSpPr>
        <p:spPr>
          <a:xfrm flipH="1">
            <a:off x="6857280" y="1993680"/>
            <a:ext cx="762840" cy="85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Gerade Verbindung mit Pfeil 10"/>
          <p:cNvCxnSpPr/>
          <p:nvPr/>
        </p:nvCxnSpPr>
        <p:spPr>
          <a:xfrm flipH="1">
            <a:off x="5091840" y="2476440"/>
            <a:ext cx="6444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" name="Gerade Verbindung mit Pfeil 11"/>
          <p:cNvCxnSpPr/>
          <p:nvPr/>
        </p:nvCxnSpPr>
        <p:spPr>
          <a:xfrm>
            <a:off x="3530160" y="2603520"/>
            <a:ext cx="1080" cy="280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Text Box 32"/>
          <p:cNvSpPr/>
          <p:nvPr/>
        </p:nvSpPr>
        <p:spPr>
          <a:xfrm>
            <a:off x="5616720" y="6216480"/>
            <a:ext cx="2384280" cy="221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rom: Cherry et al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23:01:54Z</dcterms:created>
  <dc:creator>dott</dc:creator>
  <dc:description/>
  <dc:language>en-US</dc:language>
  <cp:lastModifiedBy>Uwe Pietrzyk</cp:lastModifiedBy>
  <cp:lastPrinted>2009-10-08T08:32:23Z</cp:lastPrinted>
  <dcterms:modified xsi:type="dcterms:W3CDTF">2014-10-05T13:37:26Z</dcterms:modified>
  <cp:revision>626</cp:revision>
  <dc:subject/>
  <dc:title>Folie 1</dc:title>
</cp:coreProperties>
</file>