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A0FC-A84B-493F-8181-358C39EA5BDB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EAEB-3B0C-45FA-965B-627DB69705C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0093-A6BF-42C5-AF7B-3FDA5A6830D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F93F-E280-4E6F-90A9-DC18905BE17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9156-062C-4025-A7ED-9E7693BC74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68F9-D5E7-4BA0-B213-C3A4277A40F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4F8E-8067-417F-AFBC-AEE61B3CA21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ECC0-A640-4E85-B15F-4258166779C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7E9E-1B39-4C80-9AF2-1CD5A9A0A3C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7AB8-8C14-424D-A222-203BA36FD48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81F7-6DF2-4399-A214-F9C228F89D5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DE6E-4A86-4A3B-889F-9500F7DD6E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3ED5-F57D-4E2C-A03D-9557C514655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F6F6-0AF3-418D-9EA4-DF935D7C389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440" y="0"/>
            <a:ext cx="12564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2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EduGATE  - 2014 -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U Pietrzyk / M Gaens -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INM – FZ-Juelich / University of Wuppertal - Germany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Slide </a:t>
            </a:r>
            <a:fld id="{73DD26F8-AA6C-4146-A224-5F1C412F7B3F}" type="slidenum">
              <a:rPr b="0" lang="de-DE" sz="1000" spc="-1" strike="noStrike">
                <a:solidFill>
                  <a:srgbClr val="005b8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Logo_FZ_Jülich_NEU_rgb"/>
          <p:cNvPicPr/>
          <p:nvPr/>
        </p:nvPicPr>
        <p:blipFill>
          <a:blip r:embed="rId2"/>
          <a:stretch/>
        </p:blipFill>
        <p:spPr>
          <a:xfrm>
            <a:off x="7029360" y="136440"/>
            <a:ext cx="144792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1440" y="2286000"/>
            <a:ext cx="9144000" cy="4572000"/>
          </a:xfrm>
          <a:prstGeom prst="rect">
            <a:avLst/>
          </a:prstGeom>
          <a:solidFill>
            <a:srgbClr val="005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228600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 rot="16200000">
            <a:off x="-1078920" y="931320"/>
            <a:ext cx="2478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5b82"/>
                </a:solidFill>
                <a:latin typeface="Arial MT Bd"/>
                <a:ea typeface="Arial"/>
              </a:rPr>
              <a:t>Mitglied der Helmholtz-Gemeinsch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Logo_FZ_Jülich_NEU_rgb"/>
          <p:cNvPicPr/>
          <p:nvPr/>
        </p:nvPicPr>
        <p:blipFill>
          <a:blip r:embed="rId2"/>
          <a:stretch/>
        </p:blipFill>
        <p:spPr>
          <a:xfrm>
            <a:off x="6234120" y="254160"/>
            <a:ext cx="232092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_FZ_Jülich_NEU_rgb"/>
          <p:cNvPicPr/>
          <p:nvPr/>
        </p:nvPicPr>
        <p:blipFill>
          <a:blip r:embed="rId3"/>
          <a:stretch/>
        </p:blipFill>
        <p:spPr>
          <a:xfrm>
            <a:off x="6172200" y="254160"/>
            <a:ext cx="2514600" cy="814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192400"/>
            <a:ext cx="8937720" cy="16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pectrometry_Gamma</a:t>
            </a: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new Module for the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duGATE Project</a:t>
            </a:r>
            <a:endParaRPr b="1" lang="en-US" sz="32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8520" y="3701880"/>
            <a:ext cx="856944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we Pietrzyk &amp; Michaela Gaens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itute of Neurosciences and Medicine (INM), Research Center Jueli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artment of Mathematics and Natural Sciences, University of Wuppertal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Paper </a:t>
            </a:r>
            <a:r>
              <a:rPr b="0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„Zeitschrift für Medizinische Physik“ / Z. Med. Phys. 23 (2013) 65-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Bild 1" descr="Menu_1.tiff"/>
          <p:cNvPicPr/>
          <p:nvPr/>
        </p:nvPicPr>
        <p:blipFill>
          <a:blip r:embed="rId1"/>
          <a:stretch/>
        </p:blipFill>
        <p:spPr>
          <a:xfrm>
            <a:off x="533520" y="0"/>
            <a:ext cx="45590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>
            <a:off x="5397480" y="1036800"/>
            <a:ext cx="360540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Isotop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Data Taken from File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GEANT4-DataB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RadioactiveDecay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Gerade Verbindung mit Pfeil 3"/>
          <p:cNvCxnSpPr/>
          <p:nvPr/>
        </p:nvCxnSpPr>
        <p:spPr>
          <a:xfrm flipH="1" flipV="1">
            <a:off x="3987000" y="1891800"/>
            <a:ext cx="1258200" cy="13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9" name="AutoShape 21"/>
          <p:cNvSpPr/>
          <p:nvPr/>
        </p:nvSpPr>
        <p:spPr>
          <a:xfrm>
            <a:off x="5575320" y="3263760"/>
            <a:ext cx="3376440" cy="285768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Isotope-Spectrome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90"/>
                </a:solidFill>
                <a:latin typeface="Arial"/>
                <a:ea typeface="Arial"/>
              </a:rPr>
              <a:t>Spec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11"/>
          <p:cNvSpPr/>
          <p:nvPr/>
        </p:nvSpPr>
        <p:spPr>
          <a:xfrm>
            <a:off x="5207040" y="1036800"/>
            <a:ext cx="360504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Homogeneou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N-W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(N = 2, 4, .. 36, 3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Gerade Verbindung mit Pfeil 3"/>
          <p:cNvCxnSpPr/>
          <p:nvPr/>
        </p:nvCxnSpPr>
        <p:spPr>
          <a:xfrm flipH="1" flipV="1">
            <a:off x="3987000" y="1891800"/>
            <a:ext cx="1258200" cy="13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2" name="Bild 2" descr="Sphere.tiff"/>
          <p:cNvPicPr/>
          <p:nvPr/>
        </p:nvPicPr>
        <p:blipFill>
          <a:blip r:embed="rId1"/>
          <a:stretch/>
        </p:blipFill>
        <p:spPr>
          <a:xfrm>
            <a:off x="355680" y="0"/>
            <a:ext cx="3614760" cy="3746520"/>
          </a:xfrm>
          <a:prstGeom prst="rect">
            <a:avLst/>
          </a:prstGeom>
          <a:ln w="0">
            <a:noFill/>
          </a:ln>
        </p:spPr>
      </p:pic>
      <p:pic>
        <p:nvPicPr>
          <p:cNvPr id="133" name="Bild 5" descr="Plot_1.tiff"/>
          <p:cNvPicPr/>
          <p:nvPr/>
        </p:nvPicPr>
        <p:blipFill>
          <a:blip r:embed="rId2"/>
          <a:stretch/>
        </p:blipFill>
        <p:spPr>
          <a:xfrm>
            <a:off x="2933640" y="3568680"/>
            <a:ext cx="60451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1"/>
          <p:cNvSpPr/>
          <p:nvPr/>
        </p:nvSpPr>
        <p:spPr>
          <a:xfrm>
            <a:off x="5207040" y="1036800"/>
            <a:ext cx="360504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Sphere with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empus Sans ITC"/>
                <a:ea typeface="Arial"/>
              </a:rPr>
              <a:t>111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Gerade Verbindung mit Pfeil 3"/>
          <p:cNvCxnSpPr/>
          <p:nvPr/>
        </p:nvCxnSpPr>
        <p:spPr>
          <a:xfrm flipH="1" flipV="1">
            <a:off x="3987000" y="1891800"/>
            <a:ext cx="1258200" cy="13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6" name="Bild 2" descr="Sphere.tiff"/>
          <p:cNvPicPr/>
          <p:nvPr/>
        </p:nvPicPr>
        <p:blipFill>
          <a:blip r:embed="rId1"/>
          <a:stretch/>
        </p:blipFill>
        <p:spPr>
          <a:xfrm>
            <a:off x="355680" y="0"/>
            <a:ext cx="3614760" cy="3746520"/>
          </a:xfrm>
          <a:prstGeom prst="rect">
            <a:avLst/>
          </a:prstGeom>
          <a:ln w="0">
            <a:noFill/>
          </a:ln>
        </p:spPr>
      </p:pic>
      <p:pic>
        <p:nvPicPr>
          <p:cNvPr id="137" name="Bild 1" descr="Plot_2.tiff"/>
          <p:cNvPicPr/>
          <p:nvPr/>
        </p:nvPicPr>
        <p:blipFill>
          <a:blip r:embed="rId2"/>
          <a:stretch/>
        </p:blipFill>
        <p:spPr>
          <a:xfrm>
            <a:off x="2781360" y="3581280"/>
            <a:ext cx="62355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11"/>
          <p:cNvSpPr/>
          <p:nvPr/>
        </p:nvSpPr>
        <p:spPr>
          <a:xfrm>
            <a:off x="5219640" y="96840"/>
            <a:ext cx="360540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Two Heads with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empus Sans ITC"/>
                <a:ea typeface="Arial"/>
              </a:rPr>
              <a:t>111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Coincident G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Resolved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Bild 1" descr="Plot_2.tiff"/>
          <p:cNvPicPr/>
          <p:nvPr/>
        </p:nvPicPr>
        <p:blipFill>
          <a:blip r:embed="rId1"/>
          <a:stretch/>
        </p:blipFill>
        <p:spPr>
          <a:xfrm>
            <a:off x="711360" y="4475160"/>
            <a:ext cx="4127400" cy="1925640"/>
          </a:xfrm>
          <a:prstGeom prst="rect">
            <a:avLst/>
          </a:prstGeom>
          <a:ln w="0">
            <a:noFill/>
          </a:ln>
        </p:spPr>
      </p:pic>
      <p:pic>
        <p:nvPicPr>
          <p:cNvPr id="140" name="Bild 5" descr="Plot_3.tiff"/>
          <p:cNvPicPr/>
          <p:nvPr/>
        </p:nvPicPr>
        <p:blipFill>
          <a:blip r:embed="rId2"/>
          <a:stretch/>
        </p:blipFill>
        <p:spPr>
          <a:xfrm>
            <a:off x="254160" y="0"/>
            <a:ext cx="4190760" cy="4344840"/>
          </a:xfrm>
          <a:prstGeom prst="rect">
            <a:avLst/>
          </a:prstGeom>
          <a:ln w="0">
            <a:noFill/>
          </a:ln>
        </p:spPr>
      </p:pic>
      <p:cxnSp>
        <p:nvCxnSpPr>
          <p:cNvPr id="141" name="Gerade Verbindung mit Pfeil 3"/>
          <p:cNvCxnSpPr>
            <a:stCxn id="138" idx="1"/>
          </p:cNvCxnSpPr>
          <p:nvPr/>
        </p:nvCxnSpPr>
        <p:spPr>
          <a:xfrm flipH="1">
            <a:off x="3784680" y="969840"/>
            <a:ext cx="1435320" cy="516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2" name="Bild 7" descr="Plot_4.tiff"/>
          <p:cNvPicPr/>
          <p:nvPr/>
        </p:nvPicPr>
        <p:blipFill>
          <a:blip r:embed="rId3"/>
          <a:stretch/>
        </p:blipFill>
        <p:spPr>
          <a:xfrm>
            <a:off x="4637160" y="2247840"/>
            <a:ext cx="4506840" cy="21589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11"/>
          <p:cNvSpPr/>
          <p:nvPr/>
        </p:nvSpPr>
        <p:spPr>
          <a:xfrm>
            <a:off x="4965840" y="4605480"/>
            <a:ext cx="360504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Sphere with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empus Sans ITC"/>
                <a:ea typeface="Arial"/>
              </a:rPr>
              <a:t>111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Coincident G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Summed Peak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Gerade Verbindung mit Pfeil 9"/>
          <p:cNvCxnSpPr/>
          <p:nvPr/>
        </p:nvCxnSpPr>
        <p:spPr>
          <a:xfrm flipH="1" flipV="1">
            <a:off x="4508640" y="5523840"/>
            <a:ext cx="1117800" cy="13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2"/>
          <p:cNvSpPr/>
          <p:nvPr/>
        </p:nvSpPr>
        <p:spPr>
          <a:xfrm>
            <a:off x="326880" y="1415880"/>
            <a:ext cx="8616960" cy="37508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 is the way of theo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rt and effective by examp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ucius Annae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e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 Young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pistulae m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2"/>
          <p:cNvSpPr/>
          <p:nvPr/>
        </p:nvSpPr>
        <p:spPr>
          <a:xfrm>
            <a:off x="341280" y="415800"/>
            <a:ext cx="663120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sing GATE to Educate </a:t>
            </a:r>
            <a:r>
              <a:rPr b="1" lang="de-DE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Edu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380880" y="1190520"/>
            <a:ext cx="863136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: Provide insights in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ysics of Medical 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: Provide a collection of very basic and simple GATE mac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Detector setups, but variabl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ys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switching betwee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ur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differ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on sources (General Particle Sou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m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 or Positro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simp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alys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for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463680" y="4905360"/>
            <a:ext cx="4492440" cy="5349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Coincidence Channel (</a:t>
            </a:r>
            <a:r>
              <a:rPr b="1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Coin_Ch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461880" y="5592600"/>
            <a:ext cx="4456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Gamma Camera (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Gamma_Camer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ild 1" descr="Fig_2a.eps"/>
          <p:cNvPicPr/>
          <p:nvPr/>
        </p:nvPicPr>
        <p:blipFill>
          <a:blip r:embed="rId1"/>
          <a:stretch/>
        </p:blipFill>
        <p:spPr>
          <a:xfrm>
            <a:off x="131760" y="1187280"/>
            <a:ext cx="4414680" cy="4415040"/>
          </a:xfrm>
          <a:prstGeom prst="rect">
            <a:avLst/>
          </a:prstGeom>
          <a:ln w="0">
            <a:noFill/>
          </a:ln>
        </p:spPr>
      </p:pic>
      <p:pic>
        <p:nvPicPr>
          <p:cNvPr id="108" name="Bild 2" descr="Fig_2b.eps"/>
          <p:cNvPicPr/>
          <p:nvPr/>
        </p:nvPicPr>
        <p:blipFill>
          <a:blip r:embed="rId2"/>
          <a:stretch/>
        </p:blipFill>
        <p:spPr>
          <a:xfrm>
            <a:off x="4675320" y="1187280"/>
            <a:ext cx="4410000" cy="44118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1"/>
          <p:cNvSpPr/>
          <p:nvPr/>
        </p:nvSpPr>
        <p:spPr>
          <a:xfrm>
            <a:off x="573120" y="5646600"/>
            <a:ext cx="3387600" cy="771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Basic Coincidence Chan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5191200" y="5648400"/>
            <a:ext cx="3386160" cy="771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Full Detector 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5"/>
          <p:cNvSpPr/>
          <p:nvPr/>
        </p:nvSpPr>
        <p:spPr>
          <a:xfrm>
            <a:off x="6154560" y="2347920"/>
            <a:ext cx="2679840" cy="7509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ar Gam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era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452520" y="5516640"/>
            <a:ext cx="8367480" cy="78732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ef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d931ff"/>
                </a:solidFill>
                <a:latin typeface="Arial"/>
              </a:rPr>
              <a:t>Magen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ylindrical Phantom &amp; Sourc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hollow cylinder serving 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nuating materi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various typ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ea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Blu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imat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Yellow: Crystal, Grey: Back-compart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Bild 1" descr="Fig_4a-eps-converted-to.pdf"/>
          <p:cNvPicPr/>
          <p:nvPr/>
        </p:nvPicPr>
        <p:blipFill>
          <a:blip r:embed="rId1"/>
          <a:stretch/>
        </p:blipFill>
        <p:spPr>
          <a:xfrm>
            <a:off x="611280" y="95400"/>
            <a:ext cx="5329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2"/>
          <p:cNvSpPr/>
          <p:nvPr/>
        </p:nvSpPr>
        <p:spPr>
          <a:xfrm>
            <a:off x="341280" y="415800"/>
            <a:ext cx="663120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sing GATE to Educate </a:t>
            </a:r>
            <a:r>
              <a:rPr b="1" lang="de-DE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Edu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380880" y="1190520"/>
            <a:ext cx="863136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: Provide insights in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ysics of Medical 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: Provide a collection of very basic and simple GATE mac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Detector setups, but variabl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ys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switching betwee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ur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differ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on sources (General Particle Sou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m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 or Positro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simp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alys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for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463680" y="4905360"/>
            <a:ext cx="4492440" cy="5349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Coincidence Channel (</a:t>
            </a:r>
            <a:r>
              <a:rPr b="1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Coin_Ch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5"/>
          <p:cNvSpPr/>
          <p:nvPr/>
        </p:nvSpPr>
        <p:spPr>
          <a:xfrm>
            <a:off x="461880" y="5592600"/>
            <a:ext cx="4456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Gamma Camera (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Gamma_Camer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5575320" y="3263760"/>
            <a:ext cx="3376440" cy="285768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Two New Example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1) Acquisitio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Re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0"/>
                </a:solidFill>
                <a:latin typeface="Arial"/>
                <a:ea typeface="Arial"/>
              </a:rPr>
              <a:t>SPECT_to_Reco</a:t>
            </a:r>
            <a:br>
              <a:rPr sz="2000"/>
            </a:br>
            <a:r>
              <a:rPr b="1" lang="fr-FR" sz="2000" spc="-1" strike="noStrike">
                <a:solidFill>
                  <a:srgbClr val="00009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2) Isotope Spectr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90"/>
                </a:solidFill>
                <a:latin typeface="Arial"/>
                <a:ea typeface="Arial"/>
              </a:rPr>
              <a:t>Spec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2"/>
          <p:cNvSpPr/>
          <p:nvPr/>
        </p:nvSpPr>
        <p:spPr>
          <a:xfrm>
            <a:off x="341280" y="415800"/>
            <a:ext cx="6631200" cy="5814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SPECT-to-R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1092240" y="1698480"/>
            <a:ext cx="6997680" cy="38894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P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Rotating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re data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lay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i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Imag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constr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FBP and Iterative Methods in IDL/GDL (or RO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lay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i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Imag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AD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vide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feld 2"/>
          <p:cNvSpPr/>
          <p:nvPr/>
        </p:nvSpPr>
        <p:spPr>
          <a:xfrm>
            <a:off x="393840" y="144360"/>
            <a:ext cx="8521560" cy="6396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## File: 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Readme_Intro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0"/>
                </a:solidFill>
                <a:latin typeface="Arial"/>
              </a:rPr>
              <a:t>Description of EduGATE module: SPECT_to_R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 Intro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re are three main aspects, which are demonstrated to the interested us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nning a "Gamma_Camera" in SPECT-mode, acquiring 60 projections covering 180°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setup relates closely to the Gamma_Camera example of t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duGATE-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) produce basic output like energy spectra with "roo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) Use the provided IDL/GDL modules to reconstruct images, ei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 filtered backprojection or with an iterative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) Use Fiji (or ImageJ) to insp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) the acquired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) reconstructed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information or readme-files for parts 1 t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1: start with config_starter.sh (needs probably to be adapted to the individual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2: ROOT-analysis; this is automatically started, when GATE has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3: Readme_reco_demo_idl_g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dl (Interactive Data Language) or gdl (GNUDataLanguage) can be used with the supplied "pro"-fi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4: Readme_reco_demo_Fiji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Bild 1" descr="Plot_5.tiff"/>
          <p:cNvPicPr/>
          <p:nvPr/>
        </p:nvPicPr>
        <p:blipFill>
          <a:blip r:embed="rId1"/>
          <a:stretch/>
        </p:blipFill>
        <p:spPr>
          <a:xfrm>
            <a:off x="5867280" y="1871640"/>
            <a:ext cx="27432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ild 3" descr="Plot_6.tiff"/>
          <p:cNvPicPr/>
          <p:nvPr/>
        </p:nvPicPr>
        <p:blipFill>
          <a:blip r:embed="rId1"/>
          <a:stretch/>
        </p:blipFill>
        <p:spPr>
          <a:xfrm>
            <a:off x="25560" y="1359000"/>
            <a:ext cx="4622760" cy="5526000"/>
          </a:xfrm>
          <a:prstGeom prst="rect">
            <a:avLst/>
          </a:prstGeom>
          <a:ln w="0">
            <a:noFill/>
          </a:ln>
        </p:spPr>
      </p:pic>
      <p:pic>
        <p:nvPicPr>
          <p:cNvPr id="124" name="Bild 4" descr="Plot_7.tiff"/>
          <p:cNvPicPr/>
          <p:nvPr/>
        </p:nvPicPr>
        <p:blipFill>
          <a:blip r:embed="rId2"/>
          <a:stretch/>
        </p:blipFill>
        <p:spPr>
          <a:xfrm>
            <a:off x="4635360" y="1430280"/>
            <a:ext cx="4508640" cy="53895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1"/>
          <p:cNvSpPr/>
          <p:nvPr/>
        </p:nvSpPr>
        <p:spPr>
          <a:xfrm>
            <a:off x="1828800" y="-4680"/>
            <a:ext cx="5803920" cy="13129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  <a:ea typeface="Arial"/>
              </a:rPr>
              <a:t>Display via Fi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  <a:ea typeface="Arial"/>
              </a:rPr>
              <a:t>Projections and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23:01:54Z</dcterms:created>
  <dc:creator>dott</dc:creator>
  <dc:description/>
  <dc:language>en-US</dc:language>
  <cp:lastModifiedBy>Uwe Pietrzyk</cp:lastModifiedBy>
  <cp:lastPrinted>2009-10-08T08:32:23Z</cp:lastPrinted>
  <dcterms:modified xsi:type="dcterms:W3CDTF">2014-09-04T14:47:53Z</dcterms:modified>
  <cp:revision>532</cp:revision>
  <dc:subject/>
  <dc:title>Folie 1</dc:title>
</cp:coreProperties>
</file>