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8B13B-06AB-46F3-A79A-6942ECB7F81C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3657-A6EB-4402-A7CF-F807EC62333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225E-F2C2-4700-AD53-2A3D05B930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164-8186-4BF1-9059-A938A4D750C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A982-6D49-44FC-B482-5A0B5A6DFD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D784-4BF8-40FE-AD27-D8E74C7C08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5ED5-4038-4397-8A30-3A2BF004FE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E293-505B-4B0C-8CA1-BF15705E8D4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B837-5CF4-42B2-8A10-4E9B05FED2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399-AA94-4FF0-B992-C3B5785DE97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77ED-F4B1-4075-B98F-ED762C6310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627D-85B3-46A0-BEE2-8BBDE6903C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6E0B6-0F96-445F-BB52-41315E6690A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13071-3D19-42D8-AE76-564059BB226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2BA803BE-8E26-4102-BE05-B61100C9781F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400"/>
            <a:ext cx="8937720" cy="16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rometry_Gamma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701880"/>
            <a:ext cx="8569440" cy="26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Bild 1" descr="Menu_1.tiff"/>
          <p:cNvPicPr/>
          <p:nvPr/>
        </p:nvPicPr>
        <p:blipFill>
          <a:blip r:embed="rId1"/>
          <a:stretch/>
        </p:blipFill>
        <p:spPr>
          <a:xfrm>
            <a:off x="533520" y="0"/>
            <a:ext cx="455904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1"/>
          <p:cNvSpPr/>
          <p:nvPr/>
        </p:nvSpPr>
        <p:spPr>
          <a:xfrm>
            <a:off x="5397480" y="1036800"/>
            <a:ext cx="360540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Isotop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Data Taken from File </a:t>
            </a:r>
            <a:r>
              <a:rPr b="1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GEANT4-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RadioactiveDecay3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29" name="AutoShape 21"/>
          <p:cNvSpPr/>
          <p:nvPr/>
        </p:nvSpPr>
        <p:spPr>
          <a:xfrm>
            <a:off x="5575320" y="3263760"/>
            <a:ext cx="3376440" cy="28576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Isotope-Spectrome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90"/>
                </a:solidFill>
                <a:latin typeface="Arial"/>
                <a:ea typeface="Arial"/>
              </a:rPr>
              <a:t>Spec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11"/>
          <p:cNvSpPr/>
          <p:nvPr/>
        </p:nvSpPr>
        <p:spPr>
          <a:xfrm>
            <a:off x="5207040" y="103680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Homogeneou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N-We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(N = 2, 4, .. 36, 3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2" name="Bild 2" descr="Sphere.tiff"/>
          <p:cNvPicPr/>
          <p:nvPr/>
        </p:nvPicPr>
        <p:blipFill>
          <a:blip r:embed="rId1"/>
          <a:stretch/>
        </p:blipFill>
        <p:spPr>
          <a:xfrm>
            <a:off x="355680" y="0"/>
            <a:ext cx="36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33" name="Bild 5" descr="Plot_1.tiff"/>
          <p:cNvPicPr/>
          <p:nvPr/>
        </p:nvPicPr>
        <p:blipFill>
          <a:blip r:embed="rId2"/>
          <a:stretch/>
        </p:blipFill>
        <p:spPr>
          <a:xfrm>
            <a:off x="2933640" y="3568680"/>
            <a:ext cx="604512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1"/>
          <p:cNvSpPr/>
          <p:nvPr/>
        </p:nvSpPr>
        <p:spPr>
          <a:xfrm>
            <a:off x="5207040" y="103680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Gerade Verbindung mit Pfeil 3"/>
          <p:cNvCxnSpPr/>
          <p:nvPr/>
        </p:nvCxnSpPr>
        <p:spPr>
          <a:xfrm flipH="1" flipV="1">
            <a:off x="3987000" y="1891800"/>
            <a:ext cx="1258200" cy="136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36" name="Bild 2" descr="Sphere.tiff"/>
          <p:cNvPicPr/>
          <p:nvPr/>
        </p:nvPicPr>
        <p:blipFill>
          <a:blip r:embed="rId1"/>
          <a:stretch/>
        </p:blipFill>
        <p:spPr>
          <a:xfrm>
            <a:off x="355680" y="0"/>
            <a:ext cx="3614760" cy="3746520"/>
          </a:xfrm>
          <a:prstGeom prst="rect">
            <a:avLst/>
          </a:prstGeom>
          <a:ln w="0">
            <a:noFill/>
          </a:ln>
        </p:spPr>
      </p:pic>
      <p:pic>
        <p:nvPicPr>
          <p:cNvPr id="137" name="Bild 1" descr="Plot_2.tiff"/>
          <p:cNvPicPr/>
          <p:nvPr/>
        </p:nvPicPr>
        <p:blipFill>
          <a:blip r:embed="rId2"/>
          <a:stretch/>
        </p:blipFill>
        <p:spPr>
          <a:xfrm>
            <a:off x="2781360" y="3581280"/>
            <a:ext cx="623556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11"/>
          <p:cNvSpPr/>
          <p:nvPr/>
        </p:nvSpPr>
        <p:spPr>
          <a:xfrm>
            <a:off x="5219640" y="96840"/>
            <a:ext cx="360540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Two Heads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Coincident G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Resolved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Bild 1" descr="Plot_2.tiff"/>
          <p:cNvPicPr/>
          <p:nvPr/>
        </p:nvPicPr>
        <p:blipFill>
          <a:blip r:embed="rId1"/>
          <a:stretch/>
        </p:blipFill>
        <p:spPr>
          <a:xfrm>
            <a:off x="711360" y="4475160"/>
            <a:ext cx="4127400" cy="1925640"/>
          </a:xfrm>
          <a:prstGeom prst="rect">
            <a:avLst/>
          </a:prstGeom>
          <a:ln w="0">
            <a:noFill/>
          </a:ln>
        </p:spPr>
      </p:pic>
      <p:pic>
        <p:nvPicPr>
          <p:cNvPr id="140" name="Bild 5" descr="Plot_3.tiff"/>
          <p:cNvPicPr/>
          <p:nvPr/>
        </p:nvPicPr>
        <p:blipFill>
          <a:blip r:embed="rId2"/>
          <a:stretch/>
        </p:blipFill>
        <p:spPr>
          <a:xfrm>
            <a:off x="254160" y="0"/>
            <a:ext cx="4190760" cy="4344840"/>
          </a:xfrm>
          <a:prstGeom prst="rect">
            <a:avLst/>
          </a:prstGeom>
          <a:ln w="0">
            <a:noFill/>
          </a:ln>
        </p:spPr>
      </p:pic>
      <p:cxnSp>
        <p:nvCxnSpPr>
          <p:cNvPr id="141" name="Gerade Verbindung mit Pfeil 3"/>
          <p:cNvCxnSpPr>
            <a:stCxn id="138" idx="1"/>
          </p:cNvCxnSpPr>
          <p:nvPr/>
        </p:nvCxnSpPr>
        <p:spPr>
          <a:xfrm flipH="1">
            <a:off x="3784680" y="969840"/>
            <a:ext cx="1435320" cy="5169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42" name="Bild 7" descr="Plot_4.tiff"/>
          <p:cNvPicPr/>
          <p:nvPr/>
        </p:nvPicPr>
        <p:blipFill>
          <a:blip r:embed="rId3"/>
          <a:stretch/>
        </p:blipFill>
        <p:spPr>
          <a:xfrm>
            <a:off x="4637160" y="2247840"/>
            <a:ext cx="4506840" cy="215892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11"/>
          <p:cNvSpPr/>
          <p:nvPr/>
        </p:nvSpPr>
        <p:spPr>
          <a:xfrm>
            <a:off x="4965840" y="4605480"/>
            <a:ext cx="3605040" cy="17445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phere with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empus Sans ITC"/>
                <a:ea typeface="Arial"/>
              </a:rPr>
              <a:t>111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Coincident Gam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empus Sans ITC"/>
                <a:ea typeface="Arial"/>
              </a:rPr>
              <a:t>Summed Peak 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Gerade Verbindung mit Pfeil 9"/>
          <p:cNvCxnSpPr/>
          <p:nvPr/>
        </p:nvCxnSpPr>
        <p:spPr>
          <a:xfrm flipH="1" flipV="1">
            <a:off x="4508640" y="5523840"/>
            <a:ext cx="1117800" cy="133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2"/>
          <p:cNvSpPr/>
          <p:nvPr/>
        </p:nvSpPr>
        <p:spPr>
          <a:xfrm>
            <a:off x="341280" y="415800"/>
            <a:ext cx="663120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sing GATE to Educate </a:t>
            </a:r>
            <a:r>
              <a:rPr b="1" lang="de-DE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Edu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380880" y="1190520"/>
            <a:ext cx="863136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Provide insights in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s of Medical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 Provide a collection of very basic and simple GATE ma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Detector setups, but varia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switching betwee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r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n sources (General Particle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m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or Positr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imp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aly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for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463680" y="4905360"/>
            <a:ext cx="4492440" cy="534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incidence Channel (</a:t>
            </a:r>
            <a:r>
              <a:rPr b="1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in_Ch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461880" y="5592600"/>
            <a:ext cx="4456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Gamma Camera (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Gamma_Camer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Bild 1" descr="Fig_2a.eps"/>
          <p:cNvPicPr/>
          <p:nvPr/>
        </p:nvPicPr>
        <p:blipFill>
          <a:blip r:embed="rId1"/>
          <a:stretch/>
        </p:blipFill>
        <p:spPr>
          <a:xfrm>
            <a:off x="131760" y="1187280"/>
            <a:ext cx="4414680" cy="4415040"/>
          </a:xfrm>
          <a:prstGeom prst="rect">
            <a:avLst/>
          </a:prstGeom>
          <a:ln w="0">
            <a:noFill/>
          </a:ln>
        </p:spPr>
      </p:pic>
      <p:pic>
        <p:nvPicPr>
          <p:cNvPr id="108" name="Bild 2" descr="Fig_2b.eps"/>
          <p:cNvPicPr/>
          <p:nvPr/>
        </p:nvPicPr>
        <p:blipFill>
          <a:blip r:embed="rId2"/>
          <a:stretch/>
        </p:blipFill>
        <p:spPr>
          <a:xfrm>
            <a:off x="4675320" y="1187280"/>
            <a:ext cx="4410000" cy="44118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11"/>
          <p:cNvSpPr/>
          <p:nvPr/>
        </p:nvSpPr>
        <p:spPr>
          <a:xfrm>
            <a:off x="573120" y="5646600"/>
            <a:ext cx="3387600" cy="77184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Basic Coincidence Chann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1"/>
          <p:cNvSpPr/>
          <p:nvPr/>
        </p:nvSpPr>
        <p:spPr>
          <a:xfrm>
            <a:off x="5191200" y="5648400"/>
            <a:ext cx="3386160" cy="77148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Tempus Sans ITC"/>
                <a:ea typeface="Arial"/>
              </a:rPr>
              <a:t>Full Detector 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5"/>
          <p:cNvSpPr/>
          <p:nvPr/>
        </p:nvSpPr>
        <p:spPr>
          <a:xfrm>
            <a:off x="6154560" y="2347920"/>
            <a:ext cx="2679840" cy="750960"/>
          </a:xfrm>
          <a:prstGeom prst="rect">
            <a:avLst/>
          </a:prstGeom>
          <a:solidFill>
            <a:srgbClr val="3c8c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ar Gam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mera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5"/>
          <p:cNvSpPr/>
          <p:nvPr/>
        </p:nvSpPr>
        <p:spPr>
          <a:xfrm>
            <a:off x="452520" y="5516640"/>
            <a:ext cx="8367480" cy="78732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Lef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d931ff"/>
                </a:solidFill>
                <a:latin typeface="Arial"/>
              </a:rPr>
              <a:t>Magen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ylindrical Phantom &amp; Sourc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hollow cylinder serving a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enuating materi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various typ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ea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Blu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imat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– Yellow: Crystal, Grey: Back-compart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Bild 1" descr="Fig_4a-eps-converted-to.pdf"/>
          <p:cNvPicPr/>
          <p:nvPr/>
        </p:nvPicPr>
        <p:blipFill>
          <a:blip r:embed="rId1"/>
          <a:stretch/>
        </p:blipFill>
        <p:spPr>
          <a:xfrm>
            <a:off x="611280" y="95400"/>
            <a:ext cx="5329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2"/>
          <p:cNvSpPr/>
          <p:nvPr/>
        </p:nvSpPr>
        <p:spPr>
          <a:xfrm>
            <a:off x="341280" y="415800"/>
            <a:ext cx="6631200" cy="52056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Using GATE to Educate </a:t>
            </a:r>
            <a:r>
              <a:rPr b="1" lang="de-DE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Edu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5"/>
          <p:cNvSpPr/>
          <p:nvPr/>
        </p:nvSpPr>
        <p:spPr>
          <a:xfrm>
            <a:off x="380880" y="1190520"/>
            <a:ext cx="8631360" cy="39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Provide insights into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s of Medical Im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s: Provide a collection of very basic and simple GATE mac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Detector setups, but variable Mate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hysical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switching betwee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our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on sources (General Particle Sour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ma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ctron or Positron 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 simpl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nalysi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e for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1"/>
          <p:cNvSpPr/>
          <p:nvPr/>
        </p:nvSpPr>
        <p:spPr>
          <a:xfrm>
            <a:off x="463680" y="4905360"/>
            <a:ext cx="4492440" cy="53496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incidence Channel (</a:t>
            </a:r>
            <a:r>
              <a:rPr b="1" lang="fr-FR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  <a:ea typeface="Arial"/>
              </a:rPr>
              <a:t>Coin_Ch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5"/>
          <p:cNvSpPr/>
          <p:nvPr/>
        </p:nvSpPr>
        <p:spPr>
          <a:xfrm>
            <a:off x="461880" y="5592600"/>
            <a:ext cx="4456080" cy="533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Gamma Camera (</a:t>
            </a:r>
            <a:r>
              <a:rPr b="1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Gamma_Camer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5575320" y="3263760"/>
            <a:ext cx="3376440" cy="2857680"/>
          </a:xfrm>
          <a:prstGeom prst="roundRect">
            <a:avLst>
              <a:gd name="adj" fmla="val 16667"/>
            </a:avLst>
          </a:prstGeom>
          <a:solidFill>
            <a:srgbClr val="cccccc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wo New Example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1) Acquisi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Re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9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0"/>
                </a:solidFill>
                <a:latin typeface="Arial"/>
                <a:ea typeface="Arial"/>
              </a:rPr>
              <a:t>SPECT_to_Reco</a:t>
            </a:r>
            <a:br>
              <a:rPr sz="2000"/>
            </a:br>
            <a:r>
              <a:rPr b="1" lang="fr-FR" sz="2000" spc="-1" strike="noStrike">
                <a:solidFill>
                  <a:srgbClr val="00009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2) Isotope Spectr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000090"/>
                </a:solidFill>
                <a:latin typeface="Arial"/>
                <a:ea typeface="Arial"/>
              </a:rPr>
              <a:t>Spect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2"/>
          <p:cNvSpPr/>
          <p:nvPr/>
        </p:nvSpPr>
        <p:spPr>
          <a:xfrm>
            <a:off x="341280" y="415800"/>
            <a:ext cx="6631200" cy="58140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SPECT-to-Re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5"/>
          <p:cNvSpPr/>
          <p:nvPr/>
        </p:nvSpPr>
        <p:spPr>
          <a:xfrm>
            <a:off x="1092240" y="1698480"/>
            <a:ext cx="6997680" cy="3889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– Rotating 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re data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j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Imag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constru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FBP and Iterative Methods in IDL/GDL (or RO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play with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j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/ Imag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AD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rovided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feld 2"/>
          <p:cNvSpPr/>
          <p:nvPr/>
        </p:nvSpPr>
        <p:spPr>
          <a:xfrm>
            <a:off x="393840" y="144360"/>
            <a:ext cx="8521560" cy="63964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# File: 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Readme_Intro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90"/>
                </a:solidFill>
                <a:latin typeface="Arial"/>
              </a:rPr>
              <a:t>Description of EduGATE module: SPECT_to_Re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* Intro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re are three main aspects, which are demonstrated to the interested us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unning a "Gamma_Camera" in SPECT-mode, acquiring 60 projections covering 180°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setup relates closely to the Gamma_Camera example of t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EduGATE-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) produce basic output like energy spectra with "root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) Use the provided IDL/GDL modules to reconstruct images, ei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 filtered backprojection or with an iterative appro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4) Use Fiji (or ImageJ) to insp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) the acquired proj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b) reconstructed im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………………………………………………………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dditional information or readme-files for parts 1 to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1: start with config_starter.sh (needs probably to be adapted to the individual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2: ROOT-analysis; this is automatically started, when GATE has comple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3: Readme_reco_demo_idl_gd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idl (Interactive Data Language) or gdl (GNUDataLanguage) can be used with the supplied "pro"-fi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art4: Readme_reco_demo_Fiji.t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Bild 1" descr="Plot_5.tiff"/>
          <p:cNvPicPr/>
          <p:nvPr/>
        </p:nvPicPr>
        <p:blipFill>
          <a:blip r:embed="rId1"/>
          <a:stretch/>
        </p:blipFill>
        <p:spPr>
          <a:xfrm>
            <a:off x="5867280" y="1871640"/>
            <a:ext cx="27432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3" descr="Plot_6.tiff"/>
          <p:cNvPicPr/>
          <p:nvPr/>
        </p:nvPicPr>
        <p:blipFill>
          <a:blip r:embed="rId1"/>
          <a:stretch/>
        </p:blipFill>
        <p:spPr>
          <a:xfrm>
            <a:off x="25560" y="1359000"/>
            <a:ext cx="4622760" cy="5526000"/>
          </a:xfrm>
          <a:prstGeom prst="rect">
            <a:avLst/>
          </a:prstGeom>
          <a:ln w="0">
            <a:noFill/>
          </a:ln>
        </p:spPr>
      </p:pic>
      <p:pic>
        <p:nvPicPr>
          <p:cNvPr id="124" name="Bild 4" descr="Plot_7.tiff"/>
          <p:cNvPicPr/>
          <p:nvPr/>
        </p:nvPicPr>
        <p:blipFill>
          <a:blip r:embed="rId2"/>
          <a:stretch/>
        </p:blipFill>
        <p:spPr>
          <a:xfrm>
            <a:off x="4635360" y="1430280"/>
            <a:ext cx="4508640" cy="538956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1"/>
          <p:cNvSpPr/>
          <p:nvPr/>
        </p:nvSpPr>
        <p:spPr>
          <a:xfrm>
            <a:off x="1828800" y="-4680"/>
            <a:ext cx="5803920" cy="131292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  <a:ea typeface="Arial"/>
              </a:rPr>
              <a:t>Display via Fij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empus Sans ITC"/>
                <a:ea typeface="Arial"/>
              </a:rPr>
              <a:t>Projections and Re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09-04T14:47:53Z</dcterms:modified>
  <cp:revision>532</cp:revision>
  <dc:subject/>
  <dc:title>Folie 1</dc:title>
</cp:coreProperties>
</file>