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3FF3B-69C1-4D28-A4B8-69A6A07A85A7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1F1D-83A3-4235-A3BE-5BA42E4DC47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29C2-DBF9-4203-9823-14EBF356D9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DA1A-C98B-422F-B0C2-8875B4240DA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6FB0F-1E66-4031-B430-80107AAC7C2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122E9-98F8-4497-AC3E-158DB8AA035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68CB-AD48-4137-9D39-C2065F7BA2C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7A22-CBA5-46FC-BFB6-497D104C454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9B64-C83B-4322-8756-201884CB1C9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E7BE6-5B93-4D54-9028-F530D22CB0F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15E7-5054-436B-94AF-38242616A0A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440" y="0"/>
            <a:ext cx="12564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2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EduGATE  - 2014 -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U Pietrzyk / M Gaens -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INM – FZ-Juelich / University of Wuppertal - Germany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Slide </a:t>
            </a:r>
            <a:fld id="{D4BB64DB-632C-450A-AD1D-8A151DE24BB9}" type="slidenum">
              <a:rPr b="0" lang="de-DE" sz="1000" spc="-1" strike="noStrike">
                <a:solidFill>
                  <a:srgbClr val="005b8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Logo_FZ_Jülich_NEU_rgb"/>
          <p:cNvPicPr/>
          <p:nvPr/>
        </p:nvPicPr>
        <p:blipFill>
          <a:blip r:embed="rId2"/>
          <a:stretch/>
        </p:blipFill>
        <p:spPr>
          <a:xfrm>
            <a:off x="7029360" y="136440"/>
            <a:ext cx="144792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1440" y="2286000"/>
            <a:ext cx="9144000" cy="4572000"/>
          </a:xfrm>
          <a:prstGeom prst="rect">
            <a:avLst/>
          </a:prstGeom>
          <a:solidFill>
            <a:srgbClr val="005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228600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 rot="16200000">
            <a:off x="-1078920" y="931320"/>
            <a:ext cx="2478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5b82"/>
                </a:solidFill>
                <a:latin typeface="Arial MT Bd"/>
                <a:ea typeface="Arial"/>
              </a:rPr>
              <a:t>Mitglied der Helmholtz-Gemeinsch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Logo_FZ_Jülich_NEU_rgb"/>
          <p:cNvPicPr/>
          <p:nvPr/>
        </p:nvPicPr>
        <p:blipFill>
          <a:blip r:embed="rId2"/>
          <a:stretch/>
        </p:blipFill>
        <p:spPr>
          <a:xfrm>
            <a:off x="6234120" y="254160"/>
            <a:ext cx="232092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_FZ_Jülich_NEU_rgb"/>
          <p:cNvPicPr/>
          <p:nvPr/>
        </p:nvPicPr>
        <p:blipFill>
          <a:blip r:embed="rId3"/>
          <a:stretch/>
        </p:blipFill>
        <p:spPr>
          <a:xfrm>
            <a:off x="6172200" y="254160"/>
            <a:ext cx="2514600" cy="814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u.pietrzyk@fz-juelich.d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192400"/>
            <a:ext cx="8937720" cy="16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pectro</a:t>
            </a: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new Module for the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duGATE Project</a:t>
            </a:r>
            <a:endParaRPr b="1" lang="en-US" sz="32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8520" y="3701880"/>
            <a:ext cx="856944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we Pietrzyk &amp; Michaela Gaens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itute of Neurosciences and Medicine (INM), Research Center Jueli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artment of Mathematics and Natural Sciences, University of Wuppertal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ac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.pietrzyk@fz-juelich.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r uwe.pietrzyk@uni-wupperta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Paper </a:t>
            </a:r>
            <a:r>
              <a:rPr b="0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„Zeitschrift für Medizinische Physik“ / Z. Med. Phys. 23 (2013) 65-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1"/>
          <p:cNvSpPr/>
          <p:nvPr/>
        </p:nvSpPr>
        <p:spPr>
          <a:xfrm>
            <a:off x="5219640" y="96840"/>
            <a:ext cx="360540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Two Heads with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empus Sans ITC"/>
                <a:ea typeface="Arial"/>
              </a:rPr>
              <a:t>111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Coincident G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Resolved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Bild 1" descr="Plot_2.tiff"/>
          <p:cNvPicPr/>
          <p:nvPr/>
        </p:nvPicPr>
        <p:blipFill>
          <a:blip r:embed="rId1"/>
          <a:stretch/>
        </p:blipFill>
        <p:spPr>
          <a:xfrm>
            <a:off x="711360" y="4475160"/>
            <a:ext cx="4127400" cy="1925640"/>
          </a:xfrm>
          <a:prstGeom prst="rect">
            <a:avLst/>
          </a:prstGeom>
          <a:ln w="0">
            <a:noFill/>
          </a:ln>
        </p:spPr>
      </p:pic>
      <p:pic>
        <p:nvPicPr>
          <p:cNvPr id="139" name="Bild 5" descr="Plot_3.tiff"/>
          <p:cNvPicPr/>
          <p:nvPr/>
        </p:nvPicPr>
        <p:blipFill>
          <a:blip r:embed="rId2"/>
          <a:stretch/>
        </p:blipFill>
        <p:spPr>
          <a:xfrm>
            <a:off x="254160" y="0"/>
            <a:ext cx="4190760" cy="4344840"/>
          </a:xfrm>
          <a:prstGeom prst="rect">
            <a:avLst/>
          </a:prstGeom>
          <a:ln w="0">
            <a:noFill/>
          </a:ln>
        </p:spPr>
      </p:pic>
      <p:cxnSp>
        <p:nvCxnSpPr>
          <p:cNvPr id="140" name="Gerade Verbindung mit Pfeil 3"/>
          <p:cNvCxnSpPr/>
          <p:nvPr/>
        </p:nvCxnSpPr>
        <p:spPr>
          <a:xfrm flipH="1">
            <a:off x="3936600" y="673200"/>
            <a:ext cx="1867680" cy="80064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41" name="Bild 7" descr="Plot_4.tiff"/>
          <p:cNvPicPr/>
          <p:nvPr/>
        </p:nvPicPr>
        <p:blipFill>
          <a:blip r:embed="rId3"/>
          <a:stretch/>
        </p:blipFill>
        <p:spPr>
          <a:xfrm>
            <a:off x="4637160" y="2247840"/>
            <a:ext cx="4506840" cy="215892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11"/>
          <p:cNvSpPr/>
          <p:nvPr/>
        </p:nvSpPr>
        <p:spPr>
          <a:xfrm>
            <a:off x="4965840" y="4605480"/>
            <a:ext cx="360504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Sphere with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empus Sans ITC"/>
                <a:ea typeface="Arial"/>
              </a:rPr>
              <a:t>111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Coincident G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Summed Peak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Gerade Verbindung mit Pfeil 9"/>
          <p:cNvCxnSpPr/>
          <p:nvPr/>
        </p:nvCxnSpPr>
        <p:spPr>
          <a:xfrm flipH="1" flipV="1">
            <a:off x="4254120" y="5498640"/>
            <a:ext cx="1118160" cy="13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4" name="Gerade Verbindung mit Pfeil 9"/>
          <p:cNvCxnSpPr/>
          <p:nvPr/>
        </p:nvCxnSpPr>
        <p:spPr>
          <a:xfrm flipH="1">
            <a:off x="6869880" y="1727280"/>
            <a:ext cx="127800" cy="1092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2"/>
          <p:cNvSpPr/>
          <p:nvPr/>
        </p:nvSpPr>
        <p:spPr>
          <a:xfrm>
            <a:off x="326880" y="1415880"/>
            <a:ext cx="8616960" cy="37508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 is the way of theo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rt and effective by examp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ucius Annae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e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 Young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pistulae m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1"/>
          <p:cNvSpPr/>
          <p:nvPr/>
        </p:nvSpPr>
        <p:spPr>
          <a:xfrm>
            <a:off x="4457880" y="160200"/>
            <a:ext cx="4394160" cy="16941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Isotop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Data Taken from File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GEANT4-DataB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RadioactiveDecay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1"/>
          <p:cNvSpPr/>
          <p:nvPr/>
        </p:nvSpPr>
        <p:spPr>
          <a:xfrm>
            <a:off x="611280" y="0"/>
            <a:ext cx="3376440" cy="180324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Arial"/>
                <a:ea typeface="Arial"/>
              </a:rPr>
              <a:t>Isotope-Spectrom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fr-FR" sz="2800" spc="-1" strike="noStrike">
                <a:solidFill>
                  <a:srgbClr val="000090"/>
                </a:solidFill>
                <a:latin typeface="Arial"/>
                <a:ea typeface="Arial"/>
              </a:rPr>
              <a:t>Spec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Bild 1" descr="startup_1.tiff"/>
          <p:cNvPicPr/>
          <p:nvPr/>
        </p:nvPicPr>
        <p:blipFill>
          <a:blip r:embed="rId1"/>
          <a:stretch/>
        </p:blipFill>
        <p:spPr>
          <a:xfrm>
            <a:off x="63360" y="1994040"/>
            <a:ext cx="6032520" cy="3454200"/>
          </a:xfrm>
          <a:prstGeom prst="rect">
            <a:avLst/>
          </a:prstGeom>
          <a:ln w="0">
            <a:noFill/>
          </a:ln>
        </p:spPr>
      </p:pic>
      <p:cxnSp>
        <p:nvCxnSpPr>
          <p:cNvPr id="106" name="Gerade Verbindung mit Pfeil 3"/>
          <p:cNvCxnSpPr/>
          <p:nvPr/>
        </p:nvCxnSpPr>
        <p:spPr>
          <a:xfrm flipH="1">
            <a:off x="3847320" y="3568320"/>
            <a:ext cx="2655000" cy="1258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07" name="AutoShape 11"/>
          <p:cNvSpPr/>
          <p:nvPr/>
        </p:nvSpPr>
        <p:spPr>
          <a:xfrm>
            <a:off x="6222960" y="2649600"/>
            <a:ext cx="2921040" cy="2341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1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) Type Isotope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and Mass Numb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(no blan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ex: I131 or In111 or Na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empus Sans ITC"/>
                <a:ea typeface="Arial"/>
              </a:rPr>
              <a:t>hit the ReturnKey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empus Sans ITC"/>
                <a:ea typeface="Arial"/>
              </a:rPr>
              <a:t>go to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11"/>
          <p:cNvSpPr/>
          <p:nvPr/>
        </p:nvSpPr>
        <p:spPr>
          <a:xfrm>
            <a:off x="6159600" y="3043080"/>
            <a:ext cx="2921040" cy="2519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3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) click </a:t>
            </a: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Che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and more items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show 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modify paramet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if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empus Sans ITC"/>
                <a:ea typeface="Arial"/>
              </a:rPr>
              <a:t>go to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Bild 2" descr="startup_2.tiff"/>
          <p:cNvPicPr/>
          <p:nvPr/>
        </p:nvPicPr>
        <p:blipFill>
          <a:blip r:embed="rId1"/>
          <a:stretch/>
        </p:blipFill>
        <p:spPr>
          <a:xfrm>
            <a:off x="216000" y="0"/>
            <a:ext cx="581652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10" name="Gerade Verbindung mit Pfeil 3"/>
          <p:cNvCxnSpPr/>
          <p:nvPr/>
        </p:nvCxnSpPr>
        <p:spPr>
          <a:xfrm flipH="1" flipV="1">
            <a:off x="4140000" y="3162240"/>
            <a:ext cx="2463840" cy="178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sp>
        <p:nvSpPr>
          <p:cNvPr id="111" name="AutoShape 11"/>
          <p:cNvSpPr/>
          <p:nvPr/>
        </p:nvSpPr>
        <p:spPr>
          <a:xfrm>
            <a:off x="6184800" y="135000"/>
            <a:ext cx="2921040" cy="19987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) select camera 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Sphere, 2heads,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select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Gerade Verbindung mit Pfeil 3"/>
          <p:cNvCxnSpPr/>
          <p:nvPr/>
        </p:nvCxnSpPr>
        <p:spPr>
          <a:xfrm flipH="1" flipV="1">
            <a:off x="4686120" y="926280"/>
            <a:ext cx="1956240" cy="8964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113" name="Gerade Verbindung mit Pfeil 3"/>
          <p:cNvCxnSpPr/>
          <p:nvPr/>
        </p:nvCxnSpPr>
        <p:spPr>
          <a:xfrm flipH="1">
            <a:off x="4177440" y="1574640"/>
            <a:ext cx="2629800" cy="75024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11"/>
          <p:cNvSpPr/>
          <p:nvPr/>
        </p:nvSpPr>
        <p:spPr>
          <a:xfrm>
            <a:off x="6159600" y="3043080"/>
            <a:ext cx="2921040" cy="25196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4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) click </a:t>
            </a: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and some </a:t>
            </a: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Info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 is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in the terminal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empus Sans ITC"/>
                <a:ea typeface="Arial"/>
              </a:rPr>
              <a:t>go to next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Bild 2" descr="startup_2.tiff"/>
          <p:cNvPicPr/>
          <p:nvPr/>
        </p:nvPicPr>
        <p:blipFill>
          <a:blip r:embed="rId1"/>
          <a:stretch/>
        </p:blipFill>
        <p:spPr>
          <a:xfrm>
            <a:off x="216000" y="0"/>
            <a:ext cx="5816520" cy="6858000"/>
          </a:xfrm>
          <a:prstGeom prst="rect">
            <a:avLst/>
          </a:prstGeom>
          <a:ln w="0">
            <a:noFill/>
          </a:ln>
        </p:spPr>
      </p:pic>
      <p:cxnSp>
        <p:nvCxnSpPr>
          <p:cNvPr id="116" name="Gerade Verbindung mit Pfeil 3"/>
          <p:cNvCxnSpPr/>
          <p:nvPr/>
        </p:nvCxnSpPr>
        <p:spPr>
          <a:xfrm flipH="1" flipV="1">
            <a:off x="5079240" y="3149640"/>
            <a:ext cx="1600920" cy="17820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1"/>
          <p:cNvSpPr/>
          <p:nvPr/>
        </p:nvSpPr>
        <p:spPr>
          <a:xfrm>
            <a:off x="5460840" y="88920"/>
            <a:ext cx="3632400" cy="173196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Det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(selected </a:t>
            </a:r>
            <a:r>
              <a:rPr b="1" lang="en-US" sz="1800" spc="-1" strike="noStrike">
                <a:solidFill>
                  <a:srgbClr val="008000"/>
                </a:solidFill>
                <a:latin typeface="Tempus Sans ITC"/>
                <a:ea typeface="Arial"/>
              </a:rPr>
              <a:t>Isotope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are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in the terminal 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feld 1"/>
          <p:cNvSpPr/>
          <p:nvPr/>
        </p:nvSpPr>
        <p:spPr>
          <a:xfrm>
            <a:off x="462960" y="76320"/>
            <a:ext cx="5405040" cy="629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rocessing GenerateGateConfiguration.C+( "Spectro.txt" )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oot [1] RadioactiveDecay3.3/z11.a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Arial"/>
              </a:rPr>
              <a:t>#  22NA (2.6019 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Arial"/>
              </a:rPr>
              <a:t>#  Excitation   Halflife Mode       Daughter Ex  Intensity           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8000"/>
                </a:solidFill>
                <a:latin typeface="Arial"/>
              </a:rPr>
              <a:t># File sanitized by Vanderbilt Decay-o-m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8000"/>
                </a:solidFill>
                <a:latin typeface="Arial"/>
              </a:rPr>
              <a:t># $Id: repair_decay_files.py,v 1.20 2006/04/24 14:53:36 marcus Exp $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# Fri Oct  6 15:26:18 200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P       0.0000   8.2110e+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W [VU repair system] Deleted zero-probability event: Mshell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BetaPlus       0.0000   9.0500e-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KshellEC       0.0000   8.7710e-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LshellEC       0.0000   7.2590e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BetaPlus       0.0000   5.6000e-02    2842.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BetaPlus    1274.5700   9.0500e+01    1567.6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KshellEC    1274.5700   8.7760e+00    1567.6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                          </a:t>
            </a:r>
            <a:r>
              <a:rPr b="0" lang="de-DE" sz="1200" spc="-1" strike="noStrike">
                <a:solidFill>
                  <a:srgbClr val="008000"/>
                </a:solidFill>
                <a:latin typeface="Arial"/>
              </a:rPr>
              <a:t>LshellEC    1274.5700   7.2630e-01    1567.6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CameraType  camera_2h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ViewPointThetaPhi  45 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VisuOnOff  novi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SourceActivity  100 B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SourceType ion_Na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Ion_A_val 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Ion_Z_val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SourceType  ion_univer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RootFileName  Spectro_{SourceType}_{Ion_Z_val}_{Ion_A_val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CrystalMaterial  N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SourceRad  0.1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PhanRmax  15.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PhanRmin  4.0 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PhantomMaterial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/control/alias SourceVolMaterial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End of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5575320" y="2446200"/>
            <a:ext cx="3568680" cy="19227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5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)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Generate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and the selected conf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is shown in the termi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1"/>
          <p:cNvSpPr/>
          <p:nvPr/>
        </p:nvSpPr>
        <p:spPr>
          <a:xfrm>
            <a:off x="5575320" y="4643280"/>
            <a:ext cx="3568680" cy="19227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6</a:t>
            </a: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) cli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empus Sans ITC"/>
                <a:ea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to st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GATE si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Gerade Verbindung mit Pfeil 3"/>
          <p:cNvCxnSpPr/>
          <p:nvPr/>
        </p:nvCxnSpPr>
        <p:spPr>
          <a:xfrm flipH="1">
            <a:off x="3555720" y="3733560"/>
            <a:ext cx="2134080" cy="78804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  <p:cxnSp>
        <p:nvCxnSpPr>
          <p:cNvPr id="122" name="Gerade Verbindung mit Pfeil 3"/>
          <p:cNvCxnSpPr/>
          <p:nvPr/>
        </p:nvCxnSpPr>
        <p:spPr>
          <a:xfrm flipH="1" flipV="1">
            <a:off x="2044080" y="596520"/>
            <a:ext cx="3734280" cy="267120"/>
          </a:xfrm>
          <a:prstGeom prst="straightConnector1">
            <a:avLst/>
          </a:prstGeom>
          <a:ln w="38160">
            <a:solidFill>
              <a:srgbClr val="ff0000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1"/>
          <p:cNvSpPr/>
          <p:nvPr/>
        </p:nvSpPr>
        <p:spPr>
          <a:xfrm>
            <a:off x="5207040" y="1036800"/>
            <a:ext cx="360504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</a:rPr>
              <a:t>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Source in the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Gerade Verbindung mit Pfeil 3"/>
          <p:cNvCxnSpPr/>
          <p:nvPr/>
        </p:nvCxnSpPr>
        <p:spPr>
          <a:xfrm flipH="1" flipV="1">
            <a:off x="3987000" y="1891800"/>
            <a:ext cx="1258200" cy="13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25" name="Bild 2" descr="Sphere.tiff"/>
          <p:cNvPicPr/>
          <p:nvPr/>
        </p:nvPicPr>
        <p:blipFill>
          <a:blip r:embed="rId1"/>
          <a:stretch/>
        </p:blipFill>
        <p:spPr>
          <a:xfrm>
            <a:off x="355680" y="0"/>
            <a:ext cx="3614760" cy="3746520"/>
          </a:xfrm>
          <a:prstGeom prst="rect">
            <a:avLst/>
          </a:prstGeom>
          <a:ln w="0">
            <a:noFill/>
          </a:ln>
        </p:spPr>
      </p:pic>
      <p:pic>
        <p:nvPicPr>
          <p:cNvPr id="126" name="Bild 5" descr="Plot_1.tiff"/>
          <p:cNvPicPr/>
          <p:nvPr/>
        </p:nvPicPr>
        <p:blipFill>
          <a:blip r:embed="rId2"/>
          <a:stretch/>
        </p:blipFill>
        <p:spPr>
          <a:xfrm>
            <a:off x="2933640" y="3568680"/>
            <a:ext cx="6045120" cy="292104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>
            <a:off x="7454880" y="4051440"/>
            <a:ext cx="889200" cy="7873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empus Sans ITC"/>
                <a:ea typeface="Arial"/>
              </a:rPr>
              <a:t>131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11"/>
          <p:cNvSpPr/>
          <p:nvPr/>
        </p:nvSpPr>
        <p:spPr>
          <a:xfrm>
            <a:off x="5207040" y="1036800"/>
            <a:ext cx="360504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Sphere with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empus Sans ITC"/>
                <a:ea typeface="Arial"/>
              </a:rPr>
              <a:t>111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Gerade Verbindung mit Pfeil 3"/>
          <p:cNvCxnSpPr/>
          <p:nvPr/>
        </p:nvCxnSpPr>
        <p:spPr>
          <a:xfrm flipH="1" flipV="1">
            <a:off x="3987000" y="1891800"/>
            <a:ext cx="1258200" cy="13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130" name="Bild 2" descr="Sphere.tiff"/>
          <p:cNvPicPr/>
          <p:nvPr/>
        </p:nvPicPr>
        <p:blipFill>
          <a:blip r:embed="rId1"/>
          <a:stretch/>
        </p:blipFill>
        <p:spPr>
          <a:xfrm>
            <a:off x="355680" y="0"/>
            <a:ext cx="3614760" cy="3746520"/>
          </a:xfrm>
          <a:prstGeom prst="rect">
            <a:avLst/>
          </a:prstGeom>
          <a:ln w="0">
            <a:noFill/>
          </a:ln>
        </p:spPr>
      </p:pic>
      <p:pic>
        <p:nvPicPr>
          <p:cNvPr id="131" name="Bild 1" descr="Plot_2.tiff"/>
          <p:cNvPicPr/>
          <p:nvPr/>
        </p:nvPicPr>
        <p:blipFill>
          <a:blip r:embed="rId2"/>
          <a:stretch/>
        </p:blipFill>
        <p:spPr>
          <a:xfrm>
            <a:off x="2781360" y="3581280"/>
            <a:ext cx="6235560" cy="2908440"/>
          </a:xfrm>
          <a:prstGeom prst="rect">
            <a:avLst/>
          </a:prstGeom>
          <a:ln w="0">
            <a:noFill/>
          </a:ln>
        </p:spPr>
      </p:pic>
      <p:sp>
        <p:nvSpPr>
          <p:cNvPr id="132" name="AutoShape 11"/>
          <p:cNvSpPr/>
          <p:nvPr/>
        </p:nvSpPr>
        <p:spPr>
          <a:xfrm>
            <a:off x="7797960" y="3365640"/>
            <a:ext cx="888840" cy="787320"/>
          </a:xfrm>
          <a:prstGeom prst="roundRect">
            <a:avLst>
              <a:gd name="adj" fmla="val 16667"/>
            </a:avLst>
          </a:prstGeom>
          <a:solidFill>
            <a:srgbClr val="008000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empus Sans ITC"/>
                <a:ea typeface="Arial"/>
              </a:rPr>
              <a:t>111</a:t>
            </a:r>
            <a:r>
              <a:rPr b="1" lang="en-US" sz="2800" spc="-1" strike="noStrike">
                <a:solidFill>
                  <a:srgbClr val="ffffff"/>
                </a:solidFill>
                <a:latin typeface="Tempus Sans ITC"/>
                <a:ea typeface="Arial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Bild 3" descr="startup_3.tiff"/>
          <p:cNvPicPr/>
          <p:nvPr/>
        </p:nvPicPr>
        <p:blipFill>
          <a:blip r:embed="rId1"/>
          <a:stretch/>
        </p:blipFill>
        <p:spPr>
          <a:xfrm>
            <a:off x="0" y="977760"/>
            <a:ext cx="9144000" cy="579276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11"/>
          <p:cNvSpPr/>
          <p:nvPr/>
        </p:nvSpPr>
        <p:spPr>
          <a:xfrm>
            <a:off x="431640" y="249120"/>
            <a:ext cx="2362320" cy="703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approxim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by a 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1"/>
          <p:cNvSpPr/>
          <p:nvPr/>
        </p:nvSpPr>
        <p:spPr>
          <a:xfrm>
            <a:off x="3797280" y="5227560"/>
            <a:ext cx="2718000" cy="7034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approxim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by a 2-head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feld 2"/>
          <p:cNvSpPr/>
          <p:nvPr/>
        </p:nvSpPr>
        <p:spPr>
          <a:xfrm>
            <a:off x="6735960" y="213372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herry, et al,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23:01:54Z</dcterms:created>
  <dc:creator>dott</dc:creator>
  <dc:description/>
  <dc:language>en-US</dc:language>
  <cp:lastModifiedBy>Uwe Pietrzyk</cp:lastModifiedBy>
  <cp:lastPrinted>2009-10-08T08:32:23Z</cp:lastPrinted>
  <dcterms:modified xsi:type="dcterms:W3CDTF">2014-09-28T10:51:00Z</dcterms:modified>
  <cp:revision>549</cp:revision>
  <dc:subject/>
  <dc:title>Folie 1</dc:title>
</cp:coreProperties>
</file>