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444C-2D26-4C68-A820-D8A7F9A402B2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FF5-6276-4D4D-A00D-8395F81A51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D78A-B0B5-46DB-87D8-77100BCDFE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E8B3-64D8-4F4D-94C9-19364FF855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7DA0-27B6-4D0D-9A20-55A64A55FC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4A67-7372-4529-BA5B-D17C8EC60C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7EE4-DF73-43B5-8A06-F2F9998C3DF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AAC-8CA0-44F1-9571-AC30FA3FDC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EB20-249E-40F2-971C-5DC24BC326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862-82E0-4F49-B258-18EA96C098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415C-B6F8-41C6-9D70-B4D9F8E69C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D73251E9-84C0-4EC3-BA29-A15069799080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400"/>
            <a:ext cx="893772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701880"/>
            <a:ext cx="85694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1"/>
          <p:cNvSpPr/>
          <p:nvPr/>
        </p:nvSpPr>
        <p:spPr>
          <a:xfrm>
            <a:off x="5219640" y="96840"/>
            <a:ext cx="360540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Two Heads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Resolve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ild 1" descr="Plot_2.tiff"/>
          <p:cNvPicPr/>
          <p:nvPr/>
        </p:nvPicPr>
        <p:blipFill>
          <a:blip r:embed="rId1"/>
          <a:stretch/>
        </p:blipFill>
        <p:spPr>
          <a:xfrm>
            <a:off x="711360" y="4475160"/>
            <a:ext cx="4127400" cy="1925640"/>
          </a:xfrm>
          <a:prstGeom prst="rect">
            <a:avLst/>
          </a:prstGeom>
          <a:ln w="0">
            <a:noFill/>
          </a:ln>
        </p:spPr>
      </p:pic>
      <p:pic>
        <p:nvPicPr>
          <p:cNvPr id="139" name="Bild 5" descr="Plot_3.tiff"/>
          <p:cNvPicPr/>
          <p:nvPr/>
        </p:nvPicPr>
        <p:blipFill>
          <a:blip r:embed="rId2"/>
          <a:stretch/>
        </p:blipFill>
        <p:spPr>
          <a:xfrm>
            <a:off x="254160" y="0"/>
            <a:ext cx="4190760" cy="4344840"/>
          </a:xfrm>
          <a:prstGeom prst="rect">
            <a:avLst/>
          </a:prstGeom>
          <a:ln w="0">
            <a:noFill/>
          </a:ln>
        </p:spPr>
      </p:pic>
      <p:cxnSp>
        <p:nvCxnSpPr>
          <p:cNvPr id="140" name="Gerade Verbindung mit Pfeil 3"/>
          <p:cNvCxnSpPr/>
          <p:nvPr/>
        </p:nvCxnSpPr>
        <p:spPr>
          <a:xfrm flipH="1">
            <a:off x="3936600" y="673200"/>
            <a:ext cx="1867680" cy="800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1" name="Bild 7" descr="Plot_4.tiff"/>
          <p:cNvPicPr/>
          <p:nvPr/>
        </p:nvPicPr>
        <p:blipFill>
          <a:blip r:embed="rId3"/>
          <a:stretch/>
        </p:blipFill>
        <p:spPr>
          <a:xfrm>
            <a:off x="4637160" y="2247840"/>
            <a:ext cx="4506840" cy="2158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1"/>
          <p:cNvSpPr/>
          <p:nvPr/>
        </p:nvSpPr>
        <p:spPr>
          <a:xfrm>
            <a:off x="4965840" y="460548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ummed Peak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Gerade Verbindung mit Pfeil 9"/>
          <p:cNvCxnSpPr/>
          <p:nvPr/>
        </p:nvCxnSpPr>
        <p:spPr>
          <a:xfrm flipH="1" flipV="1">
            <a:off x="4254120" y="5498640"/>
            <a:ext cx="111816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" name="Gerade Verbindung mit Pfeil 9"/>
          <p:cNvCxnSpPr/>
          <p:nvPr/>
        </p:nvCxnSpPr>
        <p:spPr>
          <a:xfrm flipH="1">
            <a:off x="6869880" y="1727280"/>
            <a:ext cx="127800" cy="109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1"/>
          <p:cNvSpPr/>
          <p:nvPr/>
        </p:nvSpPr>
        <p:spPr>
          <a:xfrm>
            <a:off x="4457880" y="160200"/>
            <a:ext cx="4394160" cy="1694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sotop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Data Taken from File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GEANT4-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RadioactiveDecay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611280" y="0"/>
            <a:ext cx="3376440" cy="1803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Isotope-Spectro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000090"/>
                </a:solidFill>
                <a:latin typeface="Arial"/>
                <a:ea typeface="Arial"/>
              </a:rPr>
              <a:t>Spec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ild 1" descr="startup_1.tiff"/>
          <p:cNvPicPr/>
          <p:nvPr/>
        </p:nvPicPr>
        <p:blipFill>
          <a:blip r:embed="rId1"/>
          <a:stretch/>
        </p:blipFill>
        <p:spPr>
          <a:xfrm>
            <a:off x="63360" y="1994040"/>
            <a:ext cx="6032520" cy="3454200"/>
          </a:xfrm>
          <a:prstGeom prst="rect">
            <a:avLst/>
          </a:prstGeom>
          <a:ln w="0">
            <a:noFill/>
          </a:ln>
        </p:spPr>
      </p:pic>
      <p:cxnSp>
        <p:nvCxnSpPr>
          <p:cNvPr id="106" name="Gerade Verbindung mit Pfeil 3"/>
          <p:cNvCxnSpPr/>
          <p:nvPr/>
        </p:nvCxnSpPr>
        <p:spPr>
          <a:xfrm flipH="1">
            <a:off x="3847320" y="3568320"/>
            <a:ext cx="2655000" cy="1258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07" name="AutoShape 11"/>
          <p:cNvSpPr/>
          <p:nvPr/>
        </p:nvSpPr>
        <p:spPr>
          <a:xfrm>
            <a:off x="6222960" y="2649600"/>
            <a:ext cx="2921040" cy="2341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Type Isotope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Mass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(no bl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ex: I131 or In111 or Na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hit the ReturnKe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go to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1"/>
          <p:cNvSpPr/>
          <p:nvPr/>
        </p:nvSpPr>
        <p:spPr>
          <a:xfrm>
            <a:off x="6159600" y="3043080"/>
            <a:ext cx="2921040" cy="2519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more item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show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modify paramet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f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go to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ild 2" descr="startup_2.tiff"/>
          <p:cNvPicPr/>
          <p:nvPr/>
        </p:nvPicPr>
        <p:blipFill>
          <a:blip r:embed="rId1"/>
          <a:stretch/>
        </p:blipFill>
        <p:spPr>
          <a:xfrm>
            <a:off x="216000" y="0"/>
            <a:ext cx="58165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10" name="Gerade Verbindung mit Pfeil 3"/>
          <p:cNvCxnSpPr/>
          <p:nvPr/>
        </p:nvCxnSpPr>
        <p:spPr>
          <a:xfrm flipH="1" flipV="1">
            <a:off x="4140000" y="3162240"/>
            <a:ext cx="2463840" cy="178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11" name="AutoShape 11"/>
          <p:cNvSpPr/>
          <p:nvPr/>
        </p:nvSpPr>
        <p:spPr>
          <a:xfrm>
            <a:off x="6184800" y="135000"/>
            <a:ext cx="2921040" cy="1998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select camera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, 2heads,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select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Gerade Verbindung mit Pfeil 3"/>
          <p:cNvCxnSpPr/>
          <p:nvPr/>
        </p:nvCxnSpPr>
        <p:spPr>
          <a:xfrm flipH="1" flipV="1">
            <a:off x="4686120" y="926280"/>
            <a:ext cx="1956240" cy="896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13" name="Gerade Verbindung mit Pfeil 3"/>
          <p:cNvCxnSpPr/>
          <p:nvPr/>
        </p:nvCxnSpPr>
        <p:spPr>
          <a:xfrm flipH="1">
            <a:off x="4177440" y="1574640"/>
            <a:ext cx="2629800" cy="7502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1"/>
          <p:cNvSpPr/>
          <p:nvPr/>
        </p:nvSpPr>
        <p:spPr>
          <a:xfrm>
            <a:off x="6159600" y="3043080"/>
            <a:ext cx="2921040" cy="2519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some </a:t>
            </a: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Info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n the terminal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go to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Bild 2" descr="startup_2.tiff"/>
          <p:cNvPicPr/>
          <p:nvPr/>
        </p:nvPicPr>
        <p:blipFill>
          <a:blip r:embed="rId1"/>
          <a:stretch/>
        </p:blipFill>
        <p:spPr>
          <a:xfrm>
            <a:off x="216000" y="0"/>
            <a:ext cx="58165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16" name="Gerade Verbindung mit Pfeil 3"/>
          <p:cNvCxnSpPr/>
          <p:nvPr/>
        </p:nvCxnSpPr>
        <p:spPr>
          <a:xfrm flipH="1" flipV="1">
            <a:off x="5079240" y="3149640"/>
            <a:ext cx="1600920" cy="178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1"/>
          <p:cNvSpPr/>
          <p:nvPr/>
        </p:nvSpPr>
        <p:spPr>
          <a:xfrm>
            <a:off x="5460840" y="88920"/>
            <a:ext cx="3632400" cy="17319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(selected </a:t>
            </a:r>
            <a:r>
              <a:rPr b="1" lang="en-US" sz="1800" spc="-1" strike="noStrike">
                <a:solidFill>
                  <a:srgbClr val="008000"/>
                </a:solidFill>
                <a:latin typeface="Tempus Sans ITC"/>
                <a:ea typeface="Arial"/>
              </a:rPr>
              <a:t>Isotope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re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n the terminal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1"/>
          <p:cNvSpPr/>
          <p:nvPr/>
        </p:nvSpPr>
        <p:spPr>
          <a:xfrm>
            <a:off x="462960" y="76320"/>
            <a:ext cx="5405040" cy="629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ing GenerateGateConfiguration.C+( "Spectro.txt" )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oot [1] RadioactiveDecay3.3/z11.a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  22NA (2.6019 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  Excitation   Halflife Mode       Daughter Ex  Intensity          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 File sanitized by Vanderbilt Decay-o-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8000"/>
                </a:solidFill>
                <a:latin typeface="Arial"/>
              </a:rPr>
              <a:t># $Id: repair_decay_files.py,v 1.20 2006/04/24 14:53:36 marcus Exp 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# Fri Oct  6 15:26:18 20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P       0.0000   8.2110e+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W [VU repair system] Deleted zero-probability event: Mshell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BetaPlus       0.0000   9.0500e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KshellEC       0.0000   8.7710e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LshellEC       0.0000   7.2590e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BetaPlus       0.0000   5.6000e-02    2842.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BetaPlus    1274.5700   9.0500e+01    1567.6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KshellEC    1274.5700   8.7760e+00    1567.6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LshellEC    1274.5700   7.2630e-01    1567.6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CameraType  camera_2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ViewPointThetaPhi  45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VisuOnOff  novi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Activity  100 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Type ion_Na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Ion_A_val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Ion_Z_val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Type  ion_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RootFileName  Spectro_{SourceType}_{Ion_Z_val}_{Ion_A_val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CrystalMaterial  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Rad  0.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PhanRmax  15.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PhanRmin  4.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PhantomMaterial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VolMaterial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nd of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5575320" y="2446200"/>
            <a:ext cx="3568680" cy="19227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Generate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the selected conf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s shown in the term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5575320" y="4643280"/>
            <a:ext cx="3568680" cy="19227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to 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GAT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Gerade Verbindung mit Pfeil 3"/>
          <p:cNvCxnSpPr/>
          <p:nvPr/>
        </p:nvCxnSpPr>
        <p:spPr>
          <a:xfrm flipH="1">
            <a:off x="3555720" y="3733560"/>
            <a:ext cx="2134080" cy="7880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22" name="Gerade Verbindung mit Pfeil 3"/>
          <p:cNvCxnSpPr/>
          <p:nvPr/>
        </p:nvCxnSpPr>
        <p:spPr>
          <a:xfrm flipH="1" flipV="1">
            <a:off x="2044080" y="596520"/>
            <a:ext cx="3734280" cy="2671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ource in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25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26" name="Bild 5" descr="Plot_1.tiff"/>
          <p:cNvPicPr/>
          <p:nvPr/>
        </p:nvPicPr>
        <p:blipFill>
          <a:blip r:embed="rId2"/>
          <a:stretch/>
        </p:blipFill>
        <p:spPr>
          <a:xfrm>
            <a:off x="2933640" y="3568680"/>
            <a:ext cx="6045120" cy="29210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7454880" y="4051440"/>
            <a:ext cx="889200" cy="7873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31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30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31" name="Bild 1" descr="Plot_2.tiff"/>
          <p:cNvPicPr/>
          <p:nvPr/>
        </p:nvPicPr>
        <p:blipFill>
          <a:blip r:embed="rId2"/>
          <a:stretch/>
        </p:blipFill>
        <p:spPr>
          <a:xfrm>
            <a:off x="2781360" y="3581280"/>
            <a:ext cx="6235560" cy="2908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1"/>
          <p:cNvSpPr/>
          <p:nvPr/>
        </p:nvSpPr>
        <p:spPr>
          <a:xfrm>
            <a:off x="7797960" y="3365640"/>
            <a:ext cx="888840" cy="7873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ild 3" descr="startup_3.tiff"/>
          <p:cNvPicPr/>
          <p:nvPr/>
        </p:nvPicPr>
        <p:blipFill>
          <a:blip r:embed="rId1"/>
          <a:stretch/>
        </p:blipFill>
        <p:spPr>
          <a:xfrm>
            <a:off x="0" y="97776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1"/>
          <p:cNvSpPr/>
          <p:nvPr/>
        </p:nvSpPr>
        <p:spPr>
          <a:xfrm>
            <a:off x="431640" y="249120"/>
            <a:ext cx="2362320" cy="703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approxim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by a 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3797280" y="5227560"/>
            <a:ext cx="2718000" cy="703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approxim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by a 2-hea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2"/>
          <p:cNvSpPr/>
          <p:nvPr/>
        </p:nvSpPr>
        <p:spPr>
          <a:xfrm>
            <a:off x="6735960" y="213372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herry, et al,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09-28T10:51:00Z</dcterms:modified>
  <cp:revision>549</cp:revision>
  <dc:subject/>
  <dc:title>Folie 1</dc:title>
</cp:coreProperties>
</file>