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FAD4F-032C-4350-AC12-94A4C22A6969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8B55-10A2-439C-8524-5F4CB94B6E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1EED-47D4-4772-A771-3DA96F5516D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B528-25AC-487C-83EA-788AB1299A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E32-993A-4A69-B68E-301DA469E9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5B3C-D752-4747-B4E4-ED0F88DC497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D2BF-A944-4CA0-B28D-4F18A6FBF08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AF70B5BB-38EC-423D-AB81-8D3FD181D377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-to-Reco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2"/>
          <p:cNvSpPr/>
          <p:nvPr/>
        </p:nvSpPr>
        <p:spPr>
          <a:xfrm>
            <a:off x="341280" y="415800"/>
            <a:ext cx="6631200" cy="581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PECT-to-R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1092240" y="1698480"/>
            <a:ext cx="6997680" cy="38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Rotat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 data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n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FBP and Iterative Methods in IDL/GDL (or RO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AD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vid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feld 2"/>
          <p:cNvSpPr/>
          <p:nvPr/>
        </p:nvSpPr>
        <p:spPr>
          <a:xfrm>
            <a:off x="393840" y="144360"/>
            <a:ext cx="8521560" cy="6396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# File: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Readme_Intro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0"/>
                </a:solidFill>
                <a:latin typeface="Arial"/>
              </a:rPr>
              <a:t>Description of EduGATE module: SPECT_to_R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Intro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e are three main aspects, which are demonstrated to the interested u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ning a "Gamma_Camera" in SPECT-mode, acquiring 60 projections covering 180°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etup relates closely to the Gamma_Camera example of t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duGATE-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) produce basic output like energy spectra with "roo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Use the provided IDL/GDL modules to reconstruct images, 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filtered backprojection or with an iterative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) Use Fiji (or ImageJ) to in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) the acquired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) reconstructed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information or readme-files for parts 1 t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1: start with config_starter.sh (needs probably to be adapted to the individu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2: ROOT-analysis; this is automatically started, when GATE has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3: Readme_reco_demo_idl_g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l (Interactive Data Language) or gdl (GNUDataLanguage) can be used with the supplied "pro"-fi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4: Readme_reco_demo_Fiji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Plot_5.tiff"/>
          <p:cNvPicPr/>
          <p:nvPr/>
        </p:nvPicPr>
        <p:blipFill>
          <a:blip r:embed="rId1"/>
          <a:stretch/>
        </p:blipFill>
        <p:spPr>
          <a:xfrm>
            <a:off x="5867280" y="1871640"/>
            <a:ext cx="2743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Bild 3" descr="Plot_6.tiff"/>
          <p:cNvPicPr/>
          <p:nvPr/>
        </p:nvPicPr>
        <p:blipFill>
          <a:blip r:embed="rId1"/>
          <a:stretch/>
        </p:blipFill>
        <p:spPr>
          <a:xfrm>
            <a:off x="25560" y="1359000"/>
            <a:ext cx="4622760" cy="5526000"/>
          </a:xfrm>
          <a:prstGeom prst="rect">
            <a:avLst/>
          </a:prstGeom>
          <a:ln w="0">
            <a:noFill/>
          </a:ln>
        </p:spPr>
      </p:pic>
      <p:pic>
        <p:nvPicPr>
          <p:cNvPr id="110" name="Bild 4" descr="Plot_7.tiff"/>
          <p:cNvPicPr/>
          <p:nvPr/>
        </p:nvPicPr>
        <p:blipFill>
          <a:blip r:embed="rId2"/>
          <a:stretch/>
        </p:blipFill>
        <p:spPr>
          <a:xfrm>
            <a:off x="4635360" y="1430280"/>
            <a:ext cx="4508640" cy="538956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1"/>
          <p:cNvSpPr/>
          <p:nvPr/>
        </p:nvSpPr>
        <p:spPr>
          <a:xfrm>
            <a:off x="1828800" y="-4680"/>
            <a:ext cx="5803920" cy="1312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Display via F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Projections an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28T11:05:31Z</dcterms:modified>
  <cp:revision>538</cp:revision>
  <dc:subject/>
  <dc:title>Folie 1</dc:title>
</cp:coreProperties>
</file>